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C1C-5B65-4F6E-B4CF-290779E8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43D-AD3D-4768-B064-AE662FE3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375-6ED0-4A67-88F5-B578E868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807-7E1E-42BB-9FC4-D99579A8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052-36D5-40EE-BF2D-4F273D62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D67-FEC2-4A13-8954-83E9B3F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316-F72F-45A2-8496-FBF2AAB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25E-BBF6-4117-A08B-C6FC3CF8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C41-EBEA-48F6-88EF-032EB98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496-16E7-4005-B3D3-A66B3D9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EE6-21DD-466F-AC4C-1586BBD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BB8-AEE9-403A-8981-BD22ED6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E5D-2B2B-4CD3-A7AD-DB5D66E4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8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บงานที่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รอบ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12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เดือน 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ส่วนงานย่อย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บบติดตาม ปย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ผอ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โรงเรียน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ทัศนคติที่ดีและสนับสนุนการปฏิบัติงาน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แต่ไม่มีการติดตามผลการตรวจสอบและประเมินผลอย่างสม่ำเสมอ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มาตรการการใช้งบประมาณที่เหมาะสม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การจัดทำแผนบริหารความเสี่ยงและระบบการควบคุมภายใน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การกำหนดตัวชี้วัดและประเมินตัวชี้วัดตามคำรับรองการปฏิบัติราชการ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642960"/>
          <a:ext cx="6905880" cy="4929120"/>
        </p:xfrm>
        <a:graphic>
          <a:graphicData uri="http://schemas.openxmlformats.org/drawingml/2006/table">
            <a:tbl>
              <a:tblPr/>
              <a:tblGrid>
                <a:gridCol w="3453120"/>
                <a:gridCol w="3452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องค์ประกอบ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ผลการประเมิน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ข้อสรุ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บริหารและบุคลากรในหน่วยงานมีค่านิยมทัศนคติที่ดี และมีความมุ่งมั่นในการสนับสนุนการจัดการศึกษาแบบมุ่งผลสัมฤทธิ์ โดยเน้นผู้เรียนเป็นสำคัญอย่างมีประสิทธิภาพและประสิทธิผ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รงเรียน มีระบบการบริหารจัดการที่ดี โดยผู้บริหารและบุคลากรมีทัศนคติที่ดีและสนับสนุนการจัดการศึกษาอย่างมีประสิทธิภาพ</a:t>
                      </a:r>
                      <a:r>
                        <a:rPr b="0" lang="th-TH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อย่างไรก็ตามการติดตามผลการปฏิบัติงานของผู้บริหารไม่ต่อเนื่องเนื่องจากมีภารกิจที่ต้องปฏิบัติมา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1080" y="765000"/>
            <a:ext cx="87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ยังไม่ลดความเสี่ยง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           การประเมิน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องค์ประกอบ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กิจกรรมที่อยู่ในแบบ ปย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2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ของกลุ่ม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ลง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81080" y="765000"/>
            <a:ext cx="87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ปรากฏ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3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81080" y="765000"/>
            <a:ext cx="87120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ระบบการประกันคุณภาพภายในสถานศึกษาบางส่วนยังไม่เป็นไปตามมาตรฐาน เนื่องจากขาดงบประมาณสนับสนุน  ซึ่งจะจัดสรรงบประมาณเพื่อพัฒนาระบบดังกล่าวให้เป็นไปตามมาตรฐานต่อไ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81080" y="765000"/>
            <a:ext cx="87120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2.  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การกำกับ ติดตามผลการปฏิบัติงานของผู้บริหารบางเรื่องยังไม่มีประสิทธิภาพเท่าที่ควร แต่ผู้ปฏิบัติได้มีการรายงานผลการปฏิบัติงานเป็นระยะๆ อย่างสม่ำเสม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1080" y="765000"/>
            <a:ext cx="87120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การพัฒนาผลสัมฤทธิ์ทางการเรียนโรงเรียนขนาดเล็กยังไม่เป็นไปตามมาตรฐานที่กำหนด ซึ่งจะมีการสร้างเครือข่ายการเรียนร่วม เพื่อใช้ทรัพยากรและมีการทำข้อตกลงการทำงาน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U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ร่วมก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285840"/>
            <a:ext cx="91440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จากการติดตามเอกสาร พบว่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ิจกรรมการเรียนการสอน ผลสัมฤทธิ์ทางการเรียนต่ำ มีแผนปรับปรุง จำน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ข้อ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คอลัมน์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5)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ต่ยังไม่สามารถลดความเสี่ยงลงได้ในระดับที่น่าพอใจ เนื่องจากงบประมาณที่สนับสนุนสถานศึกษายังไม่เพียงพอ จึงต้องทำแผนปรับปรุงการควบคุมภายในเพิ่มเติ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2858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บงานที่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รอบ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12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เดือน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หน่วยรับตรวจ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บบติดตาม ปอ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3  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ช้ข้อมูลเดียวกันกับแบบติดตาม ปย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28584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จากการติดตามเอกสาร พบว่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ิจกรรมการจัดการเรียนการสอน ผลสัมฤทธิ์ทางการเรียนต่ำ มีแผนปรับปรุง จำน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ข้อ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คอลัมน์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5)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ต่ยังไม่สามารถลดความเสี่ยงลงได้ในระดับที่น่าพอใจ เนื่องจากงบประมาณที่สนับสนุนสถานศึกษายังไม่เพียงพอ จึงต้องทำแผนการปรับปรุงการควบคุมภายในเพิ่มเติ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ลุ่มบริหารวิชาการ มีระบบการบริหารจัดการที่ดีโดยผู้บริหารและบุคลากรมีทัศนคติที่ดีและสนับสนุนการจัดการศึกษาอย่างมีประสิทธิภาพอย่างไรก็ตามการติดตามผลการปฏิบัติงานของผู้บริหาร ไม่ต่อเนื่องเนื่องจากมีภารกิจที่ต้องปฏิบัติมา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4240" y="642960"/>
          <a:ext cx="6905880" cy="4929120"/>
        </p:xfrm>
        <a:graphic>
          <a:graphicData uri="http://schemas.openxmlformats.org/drawingml/2006/table">
            <a:tbl>
              <a:tblPr/>
              <a:tblGrid>
                <a:gridCol w="3453120"/>
                <a:gridCol w="3452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องค์ประกอบ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ผลการประเมิน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ข้อสรุ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บริหารและบุคลากรในหน่วยงานมีค่านิยมทัศนคติที่ดี และมีความมุ่งมั่นในการสนับสนุนการจัดการศึกษาแบบมุ่งผลสัมฤทธิ์ โดยเน้นผู้เรียนเป็นสำคัญอย่างมีประสิทธิภาพและประสิทธิผ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ลุ่ม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มีระบบการบริหารจัดการที่ดี โดยผู้บริหารและบุคลากรมีทัศนคติที่ดีและสนับสนุนการจัดการศึกษาอย่างมีประสิทธิภาพ</a:t>
                      </a:r>
                      <a:r>
                        <a:rPr b="0" lang="th-TH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อย่างไรก็ตามการติดตามผลการปฏิบัติงานของผู้บริหารไม่ต่อเนื่องเนื่องจากมีภารกิจที่ต้องปฏิบัติมา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ารประเมินผลการควบคุมภายในด้วยตนเอง     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SA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81080" y="765000"/>
            <a:ext cx="87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ยังไม่ลดความเสี่ยง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           การประเมิน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องค์ประกอบ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การประเมิน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SA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ลงในแบบ ปย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1080" y="765000"/>
            <a:ext cx="871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หน่วยรับตรวจ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รอบ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12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แบบติดตาม ปอ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. 3  (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ใช้ข้อมูลเดียวกับ แบบติดตาม ปย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. 2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รอบ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12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เดือน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04:43Z</dcterms:created>
  <dc:creator>ok</dc:creator>
  <dc:description/>
  <dc:language>en-US</dc:language>
  <cp:lastModifiedBy>kobchai</cp:lastModifiedBy>
  <dcterms:modified xsi:type="dcterms:W3CDTF">2012-07-14T08:37:21Z</dcterms:modified>
  <cp:revision>39</cp:revision>
  <dc:subject/>
  <dc:title>ภาพนิ่ง 1</dc:title>
</cp:coreProperties>
</file>