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5.gif" ContentType="image/gif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5.gif" ContentType="image/gif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C83-A487-4AB6-94CA-ED87BF51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E59-1E2C-4603-AD71-121143E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0AE-99B0-448D-BBBF-336CA171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85D-663C-4ABF-9A0D-E86E6E40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FAB-1531-47E1-A68E-37025BD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7C7-7CDF-442F-9586-0CE6EBD7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D0C-163D-43A4-BE3E-0F537CC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784-604F-4743-9B28-0CC693E9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31F-CF51-43CB-8800-90083D7B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A62-2E66-4A23-B0CE-B6007EE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9DC-0D0B-41C4-B56F-501F6A6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959-DBC1-4828-95C9-483584E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129-C6F9-47F5-A65C-CB8AF65AFD17}" type="datetime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99A-43F6-45ED-ADF3-BF042E98F8D7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2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3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4200" y="428760"/>
            <a:ext cx="8715600" cy="22885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ชุมปฏิบัติการเสริมสร้างความรู้ ความเข้าใจเกี่ยวก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ะบบการควบคุมภายในของสถานศึกษ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ณ ห้องประชุมจตุรมิต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วันอังคารที่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7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รกฏาคม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2555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วลา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3.0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– 16.3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0040" y="3286080"/>
            <a:ext cx="4810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  <a:cs typeface="Tahoma"/>
              </a:rPr>
              <a:t>สาระความรู้ กฎหมาย ระเบียบ นโยบ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  <a:cs typeface="Tahoma"/>
              </a:rPr>
              <a:t>แนวปฏิบัติเกี่ยวกับการควบคุมภายใ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ตัวยึดหมายเลขภาพนิ่ง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748-3F08-4533-B747-ACF8B127ABF0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600" y="630000"/>
            <a:ext cx="7929720" cy="72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0456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ือ กระบวนการที่เป็นระบบในการบริหารปัจจัยและควบคุมกิจกรรมทั้งกระบวนการการดำเนินการต่าง ๆ เพื่อลดมูลเหตุของโอกาสที่จะทำให้เกิดความเสียหายจากการดำเนินการที่ไม่เป็นไปตามแผน เพื่อให้ระดับของความเสี่ยงและผลกระทบที่จะเกิดขึ้นในอนาคตอยู่ในระดับที่สามารถยอมรับได้ ควบคุมได้ และตรวจสอบได้อย่างเป็นระบ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ที่มา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คู่มือคำอธิบาย ตัวชี้วัดฯ ก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พ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ร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ปี งปม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๒๕๕๔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ตัวยึดหมายเลขภาพนิ่ง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DCB-BC84-410C-A52A-CEB9536F3697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00040" y="357120"/>
            <a:ext cx="3786120" cy="52056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71680" y="1000080"/>
            <a:ext cx="78580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ความ ว่า กิจกรรมการให้ความเชื่อมั่นและการให้คำปรึกษาอย่างเที่ยงธรรมและเป็นอิสระซึ่งจัดให้มีขึ้นเพื่อเพิ่มคุณค่าและปรับปรุงการปฏิบัติงานของส่วนราชการให้ดีขึ้น การตรวจสอบภายในจะช่วยให้ส่วนราชการบรรลุถึงเป้าหมายและวัตถุประสงค์ที่กำหนดไว้ด้วยการประเมินและปรับปรุงประสิทธิผลของกระบวนการบริหารความเสี่ยง การควบคุมและการกำกับดูแลอย่างเป็นระบ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(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ระเบียบ กค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ว่าด้วยการตรวจสอบภายในส่วนราชการ พ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ศ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๒๕๕๑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,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ข้อ ๔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en42"/>
          <p:cNvPicPr/>
          <p:nvPr/>
        </p:nvPicPr>
        <p:blipFill>
          <a:blip r:embed="rId1"/>
          <a:stretch/>
        </p:blipFill>
        <p:spPr>
          <a:xfrm>
            <a:off x="7429680" y="5357880"/>
            <a:ext cx="1000080" cy="103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2960" y="5143680"/>
            <a:ext cx="607212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ถือเป็นกลไกหนึ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่จะช่วยผลักดันให้เกิดการควบคุมภายในและการบริหารความเสี่ยงที่เหมาะ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3111-9524-4D85-A01D-78BD4E26472A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สี่เหลี่ยมมุมมน 3"/>
          <p:cNvSpPr/>
          <p:nvPr/>
        </p:nvSpPr>
        <p:spPr>
          <a:xfrm>
            <a:off x="1357200" y="2357280"/>
            <a:ext cx="2286000" cy="150048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ควบคุม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สี่เหลี่ยมมุมมน 4"/>
          <p:cNvSpPr/>
          <p:nvPr/>
        </p:nvSpPr>
        <p:spPr>
          <a:xfrm>
            <a:off x="5214960" y="2286000"/>
            <a:ext cx="2214720" cy="1571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สี่เหลี่ยมมุมมน 5"/>
          <p:cNvSpPr/>
          <p:nvPr/>
        </p:nvSpPr>
        <p:spPr>
          <a:xfrm>
            <a:off x="3143160" y="4643280"/>
            <a:ext cx="2643120" cy="15004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071720" y="527040"/>
            <a:ext cx="7429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ความสัมพันธ์ของการควบคุมภายใ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บริหารความเสี่ยง และ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ลูกศรขวา 7"/>
          <p:cNvSpPr/>
          <p:nvPr/>
        </p:nvSpPr>
        <p:spPr>
          <a:xfrm>
            <a:off x="3929040" y="264312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ลูกศรซ้าย 9"/>
          <p:cNvSpPr/>
          <p:nvPr/>
        </p:nvSpPr>
        <p:spPr>
          <a:xfrm>
            <a:off x="3929040" y="3000240"/>
            <a:ext cx="977760" cy="214560"/>
          </a:xfrm>
          <a:prstGeom prst="leftArrow">
            <a:avLst>
              <a:gd name="adj1" fmla="val 50000"/>
              <a:gd name="adj2" fmla="val 499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ลูกศรขึ้น 10"/>
          <p:cNvSpPr/>
          <p:nvPr/>
        </p:nvSpPr>
        <p:spPr>
          <a:xfrm>
            <a:off x="4357800" y="3429000"/>
            <a:ext cx="142920" cy="9777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7438680" y="621504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มมาต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,2555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ตัวยึดหมายเลขภาพนิ่ง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8CF-55E9-41E9-B094-EC46213DDFE8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>
            <a:hlinkClick r:id="rId1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2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3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1307189395"/>
          <p:cNvPicPr/>
          <p:nvPr/>
        </p:nvPicPr>
        <p:blipFill>
          <a:blip r:embed="rId4"/>
          <a:stretch/>
        </p:blipFill>
        <p:spPr>
          <a:xfrm>
            <a:off x="-36360" y="-2700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539640" y="2994120"/>
            <a:ext cx="8353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Tahoma"/>
                <a:cs typeface="Tahoma"/>
              </a:rPr>
              <a:t>ความเสี่ยง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: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  <a:cs typeface="Tahoma"/>
              </a:rPr>
              <a:t>เหตุการณ์ที่ทำให้งานไม่สำเร็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82560" y="907920"/>
            <a:ext cx="777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ของเรื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ับจ้างบรรทุกน้ำตาลไปส่งจุดหม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39640" y="1557360"/>
            <a:ext cx="8425080" cy="8254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วัตถุประสงค์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ป้าหมาย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นำน้ำตาลทราย จำนวน ๒พันตัน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ไป ส่งถึงจุดหมายภายในเวลากำหน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71120" y="189000"/>
            <a:ext cx="762408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00"/>
                </a:solidFill>
                <a:latin typeface="Tahoma"/>
                <a:ea typeface="Tahoma"/>
              </a:rPr>
              <a:t>“</a:t>
            </a:r>
            <a:r>
              <a:rPr b="1" lang="th-TH" sz="3200" spc="-1" strike="noStrike">
                <a:solidFill>
                  <a:srgbClr val="008000"/>
                </a:solidFill>
                <a:latin typeface="Tahoma"/>
                <a:cs typeface="Tahoma"/>
              </a:rPr>
              <a:t>เรือชนตอม่อสะพานล่มขวางลำน้ำเจ้าพระย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00120" y="3933720"/>
            <a:ext cx="800424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ระบุปัจจัยเสี่ยง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ัจจัยภายใน </a:t>
            </a:r>
            <a:r>
              <a:rPr b="1" lang="th-TH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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กระบวนการทำ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ัจจัยภายนอก </a:t>
            </a:r>
            <a:r>
              <a:rPr b="1" lang="th-TH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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ภัยธรรมชา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  “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้นหาต้นเหตุ สาเหตุ”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66560" y="5877000"/>
            <a:ext cx="85694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บริหารความเสี่ยง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หลังเกิดความสูญเสีย กำหนดมาตร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Tahoma"/>
                <a:ea typeface="Tahoma"/>
              </a:rPr>
              <a:t>           </a:t>
            </a: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การควบคุมเพิ่มเติมที่มีประสิทธิภาพ ไม่ให้เกิดขึ้นอี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95280" y="5300640"/>
            <a:ext cx="8640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ความเสี่ย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ความเสียหายมูลค่าสูง ผลกระทบมา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ตัวยึดหมายเลขภาพนิ่ง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A56-16E3-47E8-BDEC-81CB6186EEC2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สี่เหลี่ยมมุมมน 3"/>
          <p:cNvSpPr/>
          <p:nvPr/>
        </p:nvSpPr>
        <p:spPr>
          <a:xfrm>
            <a:off x="428760" y="1643040"/>
            <a:ext cx="2786040" cy="20001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้นหา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ึกษาจากอดี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ำรวจในปัจจุบั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ฝ้าระวังไปข้างหน้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สี่เหลี่ยมมุมมน 4"/>
          <p:cNvSpPr/>
          <p:nvPr/>
        </p:nvSpPr>
        <p:spPr>
          <a:xfrm>
            <a:off x="3714840" y="1714680"/>
            <a:ext cx="1714320" cy="1214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00000"/>
                </a:solidFill>
                <a:latin typeface="Tahoma"/>
                <a:cs typeface="Tahoma"/>
              </a:rPr>
              <a:t>ประเมิ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00000"/>
                </a:solidFill>
                <a:latin typeface="Tahoma"/>
                <a:cs typeface="Tahoma"/>
              </a:rPr>
              <a:t>ความเสี่ย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สี่เหลี่ยมมุมมน 5"/>
          <p:cNvSpPr/>
          <p:nvPr/>
        </p:nvSpPr>
        <p:spPr>
          <a:xfrm>
            <a:off x="6072120" y="1643040"/>
            <a:ext cx="2286000" cy="221472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วบคุม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ยอม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ล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วบคุ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โ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ระจา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ยุ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ีกเล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ลูกศรขวา 6"/>
          <p:cNvSpPr/>
          <p:nvPr/>
        </p:nvSpPr>
        <p:spPr>
          <a:xfrm>
            <a:off x="3357720" y="214308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ลูกศรขวา 7"/>
          <p:cNvSpPr/>
          <p:nvPr/>
        </p:nvSpPr>
        <p:spPr>
          <a:xfrm>
            <a:off x="5643720" y="221472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วงรี 8"/>
          <p:cNvSpPr/>
          <p:nvPr/>
        </p:nvSpPr>
        <p:spPr>
          <a:xfrm>
            <a:off x="3357720" y="4929120"/>
            <a:ext cx="2428560" cy="9288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ผลระบ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ลูกศรเชื่อมต่อแบบตรง 10"/>
          <p:cNvCxnSpPr>
            <a:stCxn id="128" idx="0"/>
          </p:cNvCxnSpPr>
          <p:nvPr/>
        </p:nvCxnSpPr>
        <p:spPr>
          <a:xfrm flipV="1">
            <a:off x="4572000" y="2928600"/>
            <a:ext cx="2160" cy="20008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0" name="ลูกศรเชื่อมต่อแบบตรง 12"/>
          <p:cNvCxnSpPr/>
          <p:nvPr/>
        </p:nvCxnSpPr>
        <p:spPr>
          <a:xfrm>
            <a:off x="4643280" y="3357720"/>
            <a:ext cx="128664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1" name="ลูกศรเชื่อมต่อแบบตรง 14"/>
          <p:cNvCxnSpPr/>
          <p:nvPr/>
        </p:nvCxnSpPr>
        <p:spPr>
          <a:xfrm flipH="1" flipV="1">
            <a:off x="5857200" y="5428440"/>
            <a:ext cx="142956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2" name="ลูกศรเชื่อมต่อแบบตรง 16"/>
          <p:cNvCxnSpPr/>
          <p:nvPr/>
        </p:nvCxnSpPr>
        <p:spPr>
          <a:xfrm flipV="1">
            <a:off x="1711800" y="364464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3" name="ตัวเชื่อมต่อตรง 18"/>
          <p:cNvSpPr/>
          <p:nvPr/>
        </p:nvSpPr>
        <p:spPr>
          <a:xfrm>
            <a:off x="1714680" y="5357880"/>
            <a:ext cx="1643040" cy="3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ตัวเชื่อมต่อตรง 22"/>
          <p:cNvSpPr/>
          <p:nvPr/>
        </p:nvSpPr>
        <p:spPr>
          <a:xfrm flipV="1">
            <a:off x="7286760" y="3930480"/>
            <a:ext cx="1440" cy="1500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1500120" y="571680"/>
            <a:ext cx="6542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นวปฏิบัติการบริหารความเสี่ยง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ตัวยึดหมายเลขภาพนิ่ง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8FD-E6D6-4649-9F67-295953BC13E9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ext Box 3"/>
          <p:cNvGrpSpPr/>
          <p:nvPr/>
        </p:nvGrpSpPr>
        <p:grpSpPr>
          <a:xfrm>
            <a:off x="755640" y="3809880"/>
            <a:ext cx="7486560" cy="1305000"/>
            <a:chOff x="755640" y="3809880"/>
            <a:chExt cx="7486560" cy="1305000"/>
          </a:xfrm>
        </p:grpSpPr>
        <p:pic>
          <p:nvPicPr>
            <p:cNvPr id="138" name="Text Box 3" descr=""/>
            <p:cNvPicPr/>
            <p:nvPr/>
          </p:nvPicPr>
          <p:blipFill>
            <a:blip r:embed="rId1"/>
            <a:stretch/>
          </p:blipFill>
          <p:spPr>
            <a:xfrm>
              <a:off x="755640" y="3809880"/>
              <a:ext cx="7486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0720" y="40464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“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ความสำเร็จของการควบคุมภายใ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เกิดจากความร่วมมือ ร่วมใจของทุกคนในองค์กร 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3"/>
          <p:cNvSpPr/>
          <p:nvPr/>
        </p:nvSpPr>
        <p:spPr>
          <a:xfrm>
            <a:off x="3348720" y="53593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0000"/>
                </a:solidFill>
                <a:latin typeface="Tahoma"/>
                <a:cs typeface="Tahoma"/>
              </a:rPr>
              <a:t>สวัสดีครั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handshake"/>
          <p:cNvPicPr/>
          <p:nvPr/>
        </p:nvPicPr>
        <p:blipFill>
          <a:blip r:embed="rId2"/>
          <a:stretch/>
        </p:blipFill>
        <p:spPr>
          <a:xfrm>
            <a:off x="3714840" y="1714680"/>
            <a:ext cx="1477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071720" y="1214280"/>
            <a:ext cx="7429320" cy="2226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หลักของการบริหารองค์กรทีดี คือการติดตาม กำกับ ควบคุมและดูแล ให้มีการจัดกระบวนการเพื่อใช้ทรัพยากรให้มีประสิทธิภาพ ตรงเป้าหมาย คุ้มค่าและประหยัด เพื่อให้เกิดประโยชน์สูงสุดต่อผู้มีส่วนเกี่ยวข้อ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86000" y="285840"/>
            <a:ext cx="42861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องค์กรที่ด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071720" y="3857760"/>
            <a:ext cx="73580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ากฐานที่จะช่วยให้มีการกำกับ ดูแล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่ดี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jager010"/>
          <p:cNvPicPr/>
          <p:nvPr/>
        </p:nvPicPr>
        <p:blipFill>
          <a:blip r:embed="rId1"/>
          <a:stretch/>
        </p:blipFill>
        <p:spPr>
          <a:xfrm>
            <a:off x="7858080" y="5214960"/>
            <a:ext cx="581040" cy="1238400"/>
          </a:xfrm>
          <a:prstGeom prst="rect">
            <a:avLst/>
          </a:prstGeom>
          <a:ln w="0">
            <a:noFill/>
          </a:ln>
        </p:spPr>
      </p:pic>
      <p:sp>
        <p:nvSpPr>
          <p:cNvPr id="48" name="ตัวยึดหมายเลขภาพนิ่ง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E66-1FFD-4B2C-A15D-1FB525E92227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533160"/>
            <a:ext cx="7458120" cy="89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ควบคุมภายใน 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Internal Control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904760"/>
            <a:ext cx="789156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ถึง  กระบวนการที่ผู้กำกับดูแล ฝ่ายบริหารและบุคลากรทุกระดับของหน่วยรับตรวจ กำหนดให้มีขึ้นเพื่อให้มีความมั่นใจอย่างสมเหตุสมผลว่าการดำเนินงานจะบรรลุผลสำเร็จตามวัตถุประสงค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j0172578"/>
          <p:cNvPicPr/>
          <p:nvPr/>
        </p:nvPicPr>
        <p:blipFill>
          <a:blip r:embed="rId2"/>
          <a:stretch/>
        </p:blipFill>
        <p:spPr>
          <a:xfrm>
            <a:off x="4357800" y="4357800"/>
            <a:ext cx="1143000" cy="1401480"/>
          </a:xfrm>
          <a:prstGeom prst="rect">
            <a:avLst/>
          </a:prstGeom>
          <a:ln w="0">
            <a:noFill/>
          </a:ln>
        </p:spPr>
      </p:pic>
      <p:sp>
        <p:nvSpPr>
          <p:cNvPr id="52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4AA-F5B5-470A-A485-32CBC81AC52F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5360" y="380880"/>
            <a:ext cx="8343720" cy="1109880"/>
          </a:xfrm>
          <a:prstGeom prst="rect">
            <a:avLst/>
          </a:prstGeom>
          <a:ln w="0">
            <a:noFill/>
          </a:ln>
        </p:spPr>
      </p:pic>
      <p:sp>
        <p:nvSpPr>
          <p:cNvPr id="54" name="สี่เหลี่ยมผืนผ้า 3"/>
          <p:cNvSpPr/>
          <p:nvPr/>
        </p:nvSpPr>
        <p:spPr>
          <a:xfrm>
            <a:off x="571680" y="17859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ประสิทธิผลและประสิทธิภาพข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งาน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 Operation Objectives = o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สี่เหลี่ยมผืนผ้า 4"/>
          <p:cNvSpPr/>
          <p:nvPr/>
        </p:nvSpPr>
        <p:spPr>
          <a:xfrm>
            <a:off x="500040" y="2903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ความเชื่อถือได้ของการรา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างการเงิน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Financial Reporting Objectives =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สี่เหลี่ยมผืนผ้า 5"/>
          <p:cNvSpPr/>
          <p:nvPr/>
        </p:nvSpPr>
        <p:spPr>
          <a:xfrm>
            <a:off x="357120" y="414324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การปฏิบัติตามกฎหมายและระเบีย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ข้อบังคับที่เกี่ยวข้อง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Compliance Objectives =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computers5"/>
          <p:cNvPicPr/>
          <p:nvPr/>
        </p:nvPicPr>
        <p:blipFill>
          <a:blip r:embed="rId2"/>
          <a:stretch/>
        </p:blipFill>
        <p:spPr>
          <a:xfrm>
            <a:off x="3929040" y="5286240"/>
            <a:ext cx="1343160" cy="1238400"/>
          </a:xfrm>
          <a:prstGeom prst="rect">
            <a:avLst/>
          </a:prstGeom>
          <a:ln w="0">
            <a:noFill/>
          </a:ln>
        </p:spPr>
      </p:pic>
      <p:sp>
        <p:nvSpPr>
          <p:cNvPr id="58" name="ตัวยึดหมายเลขภาพนิ่ง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D7D-547E-43E0-B335-A05C91359415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54120" y="533520"/>
            <a:ext cx="8032680" cy="963360"/>
          </a:xfrm>
          <a:prstGeom prst="rect">
            <a:avLst/>
          </a:prstGeom>
          <a:ln w="0">
            <a:noFill/>
          </a:ln>
        </p:spPr>
      </p:pic>
      <p:sp>
        <p:nvSpPr>
          <p:cNvPr id="60" name="สี่เหลี่ยมผืนผ้า 3"/>
          <p:cNvSpPr/>
          <p:nvPr/>
        </p:nvSpPr>
        <p:spPr>
          <a:xfrm>
            <a:off x="1005480" y="2209680"/>
            <a:ext cx="66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70c0"/>
                </a:solidFill>
                <a:latin typeface="Tahoma"/>
                <a:cs typeface="Tahoma"/>
              </a:rPr>
              <a:t>แทรกหรือแฝงอยู่ในการปฏิบัติงานตามปก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สี่เหลี่ยมผืนผ้า 4"/>
          <p:cNvSpPr/>
          <p:nvPr/>
        </p:nvSpPr>
        <p:spPr>
          <a:xfrm>
            <a:off x="838080" y="29512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บุคลากรทุกระดับมีส่วนร่วมในการทำให้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การควบคุมภายใน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สี่เหลี่ยมผืนผ้า 5"/>
          <p:cNvSpPr/>
          <p:nvPr/>
        </p:nvSpPr>
        <p:spPr>
          <a:xfrm>
            <a:off x="1161360" y="4191120"/>
            <a:ext cx="58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ให้ความมั่นใจอย่างสมเหตุสมผลเท่านั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reakerman"/>
          <p:cNvPicPr/>
          <p:nvPr/>
        </p:nvPicPr>
        <p:blipFill>
          <a:blip r:embed="rId2"/>
          <a:stretch/>
        </p:blipFill>
        <p:spPr>
          <a:xfrm>
            <a:off x="4143240" y="521496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64" name="ตัวยึดหมายเลขภาพนิ่ง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6045-D147-44C0-95EF-329F1BD20768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0280" y="311040"/>
            <a:ext cx="8083440" cy="1060560"/>
          </a:xfrm>
          <a:prstGeom prst="rect">
            <a:avLst/>
          </a:prstGeom>
          <a:ln w="0">
            <a:noFill/>
          </a:ln>
        </p:spPr>
      </p:pic>
      <p:sp>
        <p:nvSpPr>
          <p:cNvPr id="66" name="สี่เหลี่ยมผืนผ้า 1"/>
          <p:cNvSpPr/>
          <p:nvPr/>
        </p:nvSpPr>
        <p:spPr>
          <a:xfrm>
            <a:off x="530280" y="167652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1.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ลดความผิดพลาด ความเสียหาย ที่อา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สี่เหลี่ยมผืนผ้า 2"/>
          <p:cNvSpPr/>
          <p:nvPr/>
        </p:nvSpPr>
        <p:spPr>
          <a:xfrm>
            <a:off x="531720" y="237168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2.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ใช้ทรัพยากรอย่างคุ้มค่า โปร่งใส ตรวจสอ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สี่เหลี่ยมผืนผ้า 3"/>
          <p:cNvSpPr/>
          <p:nvPr/>
        </p:nvSpPr>
        <p:spPr>
          <a:xfrm>
            <a:off x="533520" y="3124080"/>
            <a:ext cx="67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3.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ส่งผลให้ระบบงานต่าง ๆ มีคุณ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สี่เหลี่ยมผืนผ้า 4"/>
          <p:cNvSpPr/>
          <p:nvPr/>
        </p:nvSpPr>
        <p:spPr>
          <a:xfrm>
            <a:off x="533520" y="38862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4.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เป็นเครื่องมือในการส่งเสริม สนับสนุนให้การบริหา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จัดการมีคุณภาพได้มาตร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สี่เหลี่ยมผืนผ้า 5"/>
          <p:cNvSpPr/>
          <p:nvPr/>
        </p:nvSpPr>
        <p:spPr>
          <a:xfrm>
            <a:off x="533520" y="4962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33ff"/>
                </a:solidFill>
                <a:latin typeface="Tahoma"/>
                <a:ea typeface="Tahoma"/>
              </a:rPr>
              <a:t>5.  </a:t>
            </a:r>
            <a:r>
              <a:rPr b="0" lang="th-TH" sz="2800" spc="-1" strike="noStrike">
                <a:solidFill>
                  <a:srgbClr val="3333ff"/>
                </a:solidFill>
                <a:latin typeface="Tahoma"/>
                <a:cs typeface="Tahoma"/>
              </a:rPr>
              <a:t>เกิดประสิทธิภาพและประสิทธิผล ได้รับความเชื่อถ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ตัวยึดหมายเลขภาพนิ่ง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0185-6239-4CA9-A83C-4D31B77374FD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420480"/>
            <a:ext cx="7345080" cy="86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ความเสี่ยง 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Risk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ความเสี่ย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ถึงโอกาสที่จะเกิดความผิดพลาด ความเสียหาย การรั่วไหล ความสูญเปล่า หรือเหตุการณ์ที่ไม่พึงประสงค์ ที่ทำให้งานไม่ประสบผลสำเร็จตามวัตถุประสงค์และเป้าหมายที่กำหน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มาตรฐา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ฝ่ายบริหารต้องประเมินความเสี่ยงทั้งจากปัจจัยภายในและภายนอกที่มีผลกระทบต่อการบรรลุวัตถุประสงค์ของหน่วยรับตรวจอย่างเพียงพอและเหมาะส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380240" y="5950080"/>
            <a:ext cx="65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ที่มา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: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ู่มือการดำเนินงานการควบคุมภายในเพื่อพัฒนาคุณภาพการศึกษาฯ สพฐ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.,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๒๕๕๒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ตัวยึดหมายเลขภาพนิ่ง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47A-E104-4FB0-8982-98100716B4E3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547200"/>
            <a:ext cx="6264360" cy="80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ภทของ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773000"/>
            <a:ext cx="85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ลยุทธ์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Strategic 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ดำเนินงา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perational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เงิน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inancial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ปฏิบัติตามกฎหมาย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ฎระเบียบ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mpliance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formation Risk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จากภัยธรรมชาติ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atural Disaster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Copy of NVTech_wb023685"/>
          <p:cNvPicPr/>
          <p:nvPr/>
        </p:nvPicPr>
        <p:blipFill>
          <a:blip r:embed="rId2"/>
          <a:stretch/>
        </p:blipFill>
        <p:spPr>
          <a:xfrm>
            <a:off x="3714840" y="521496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79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0928-C75F-45EF-9F4D-B5E9B69287BD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9223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แหล่งที่มาของ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5280" y="1770120"/>
            <a:ext cx="2592360" cy="459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ภายนอ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796000" y="1841400"/>
            <a:ext cx="2952720" cy="459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ภายใ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2781360"/>
            <a:ext cx="8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6000" y="3095640"/>
            <a:ext cx="26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ศรษฐกิ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ังค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มือ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ทคโนโลย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ภัยธรรมชาติ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581800" y="299736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่านิยม วัฒนธรรมองค์กร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 ความสามาร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องบุคลา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ำ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32000" y="2494080"/>
            <a:ext cx="2376720" cy="3095640"/>
          </a:xfrm>
          <a:prstGeom prst="rect">
            <a:avLst/>
          </a:prstGeom>
          <a:solidFill>
            <a:srgbClr val="fda1eb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สพป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สพม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ศูนย์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โรงเรีย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5400000">
            <a:off x="1310760" y="2512800"/>
            <a:ext cx="544320" cy="360360"/>
          </a:xfrm>
          <a:custGeom>
            <a:avLst/>
            <a:gdLst>
              <a:gd name="textAreaLeft" fmla="*/ 0 w 544320"/>
              <a:gd name="textAreaRight" fmla="*/ 544680 w 544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 rot="5400000">
            <a:off x="7143480" y="2512800"/>
            <a:ext cx="544320" cy="360360"/>
          </a:xfrm>
          <a:custGeom>
            <a:avLst/>
            <a:gdLst>
              <a:gd name="textAreaLeft" fmla="*/ 0 w 544320"/>
              <a:gd name="textAreaRight" fmla="*/ 544680 w 544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176840" y="5264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ฯล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958440" y="5264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ฯล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7501320" y="6292800"/>
            <a:ext cx="13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มมาต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๒๕๕๔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ตัวยึดหมายเลขภาพนิ่ง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E93-C6CE-4D99-AF98-6B33B5A0EC42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5:49:38Z</dcterms:created>
  <dc:creator>user</dc:creator>
  <dc:description/>
  <dc:language>en-US</dc:language>
  <cp:lastModifiedBy>kobchai</cp:lastModifiedBy>
  <dcterms:modified xsi:type="dcterms:W3CDTF">2012-07-18T06:04:29Z</dcterms:modified>
  <cp:revision>23</cp:revision>
  <dc:subject/>
  <dc:title>ภาพนิ่ง 1</dc:title>
</cp:coreProperties>
</file>