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9309100" cy="7023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309600" cy="70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5273280" y="-36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2900160" y="527040"/>
            <a:ext cx="3509640" cy="26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527328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1F1A-D70D-4C58-9DAC-B60A6BF56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2900520" y="527040"/>
            <a:ext cx="3509640" cy="2633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ตัวยึดหมายเลขภาพนิ่ง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AE7E-CA1A-47ED-A031-14184E8794C2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E2BF-9325-4B5A-AF00-A222C7B9F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814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6280" y="2361960"/>
            <a:ext cx="769284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6280" y="4308120"/>
            <a:ext cx="769284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B6A3-555C-4D7D-92C9-5EE38506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814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6280" y="2361960"/>
            <a:ext cx="375408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78280" y="2361960"/>
            <a:ext cx="375408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6280" y="4308120"/>
            <a:ext cx="375408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78280" y="4308120"/>
            <a:ext cx="375408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8F7C-D057-48E9-9954-5D02D6F2E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814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6280" y="2361960"/>
            <a:ext cx="247680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7280" y="2361960"/>
            <a:ext cx="247680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38280" y="2361960"/>
            <a:ext cx="247680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6280" y="4308120"/>
            <a:ext cx="247680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7280" y="4308120"/>
            <a:ext cx="247680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38280" y="4308120"/>
            <a:ext cx="247680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122C-2516-421A-8AF5-61D088A07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4299-464F-4611-9555-8862513B8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814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6280" y="2361960"/>
            <a:ext cx="769284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94AE-6D98-46D8-904D-4EB87285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814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6280" y="2361960"/>
            <a:ext cx="7692840" cy="37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66E1-3DE8-4CFC-AE1D-61572B39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814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6280" y="2361960"/>
            <a:ext cx="3754080" cy="37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8280" y="2361960"/>
            <a:ext cx="3754080" cy="37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D719-2497-4E52-B7B9-29A1585E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814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35CE-578F-4DBF-8132-05CD8106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8140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23AE-06A3-44AE-84B9-9E921EB4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814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6280" y="2361960"/>
            <a:ext cx="375408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8280" y="2361960"/>
            <a:ext cx="3754080" cy="37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6280" y="4308120"/>
            <a:ext cx="375408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09D9-AF87-437D-8792-868117D5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814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6280" y="2361960"/>
            <a:ext cx="769284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D9B5-C8CC-45DB-8B5D-6CC8016D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814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6280" y="2361960"/>
            <a:ext cx="3754080" cy="37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78280" y="2361960"/>
            <a:ext cx="375408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78280" y="4308120"/>
            <a:ext cx="375408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ED8C-2383-4FEC-98C7-8A7192AB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814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6280" y="2361960"/>
            <a:ext cx="375408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8280" y="2361960"/>
            <a:ext cx="375408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6280" y="4308120"/>
            <a:ext cx="769284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127F-5244-4606-B11C-3954A914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814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6280" y="2361960"/>
            <a:ext cx="769284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6280" y="4308120"/>
            <a:ext cx="769284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BF89-43E9-47EF-84F0-A71AA7F1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814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6280" y="2361960"/>
            <a:ext cx="375408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78280" y="2361960"/>
            <a:ext cx="375408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6280" y="4308120"/>
            <a:ext cx="375408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78280" y="4308120"/>
            <a:ext cx="375408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D3C67-AF8A-4A70-9320-587FB1D9A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814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6280" y="2361960"/>
            <a:ext cx="247680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7280" y="2361960"/>
            <a:ext cx="247680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8280" y="2361960"/>
            <a:ext cx="247680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6280" y="4308120"/>
            <a:ext cx="247680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7280" y="4308120"/>
            <a:ext cx="247680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8280" y="4308120"/>
            <a:ext cx="247680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37379-8B46-42BF-8539-51FA7C888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814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6280" y="2361960"/>
            <a:ext cx="7692840" cy="37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44BE-98B3-46C7-B117-497567ED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814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6280" y="2361960"/>
            <a:ext cx="3754080" cy="37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8280" y="2361960"/>
            <a:ext cx="3754080" cy="37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A3EB-D4AD-4D3D-B0EE-94AB898B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814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3FEB-F0F2-4D97-B146-E5851D3B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8140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5EDB-9651-4148-B92C-AFB90D36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814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6280" y="2361960"/>
            <a:ext cx="375408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8280" y="2361960"/>
            <a:ext cx="3754080" cy="37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6280" y="4308120"/>
            <a:ext cx="375408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5E57-1610-4603-8E04-2C7D3B38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814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6280" y="2361960"/>
            <a:ext cx="3754080" cy="37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8280" y="2361960"/>
            <a:ext cx="375408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78280" y="4308120"/>
            <a:ext cx="375408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A66B-8DE4-4425-B076-C21E9853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814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6280" y="2361960"/>
            <a:ext cx="375408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8280" y="2361960"/>
            <a:ext cx="375408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6280" y="4308120"/>
            <a:ext cx="769284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EF8F-BA0C-4967-8DAA-3D82B226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814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6280" y="2361960"/>
            <a:ext cx="7692840" cy="37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2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lvl="1" marL="733680" indent="-279720">
              <a:spcBef>
                <a:spcPts val="726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7520">
              <a:spcBef>
                <a:spcPts val="72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lvl="3" marL="1585440" indent="-228960">
              <a:spcBef>
                <a:spcPts val="726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lvl="4" marL="2035080" indent="-224640">
              <a:spcBef>
                <a:spcPts val="726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lvl="5" marL="2035080" indent="-224640">
              <a:spcBef>
                <a:spcPts val="726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lvl="6" marL="2035080" indent="-224640">
              <a:spcBef>
                <a:spcPts val="726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9720" y="6246360"/>
            <a:ext cx="21272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89520" y="624636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5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3480"/>
            <a:ext cx="587160" cy="487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0043-F485-441D-8A9B-75DB36FC4C3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8720" cy="6858000"/>
            <a:chOff x="0" y="0"/>
            <a:chExt cx="586872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308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292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7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0240" y="4889520"/>
            <a:ext cx="4878360" cy="317520"/>
            <a:chOff x="3630240" y="4889520"/>
            <a:chExt cx="4878360" cy="317520"/>
          </a:xfrm>
        </p:grpSpPr>
        <p:sp>
          <p:nvSpPr>
            <p:cNvPr id="52" name="AutoShape 6"/>
            <p:cNvSpPr/>
            <p:nvPr/>
          </p:nvSpPr>
          <p:spPr>
            <a:xfrm flipH="1">
              <a:off x="3629880" y="4889520"/>
              <a:ext cx="4627080" cy="31608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320" y="4889520"/>
              <a:ext cx="260280" cy="3175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814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6280" y="2361960"/>
            <a:ext cx="7692840" cy="37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2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lvl="1" marL="733680" indent="-279720">
              <a:spcBef>
                <a:spcPts val="726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7520">
              <a:spcBef>
                <a:spcPts val="72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lvl="3" marL="1585440" indent="-228960">
              <a:spcBef>
                <a:spcPts val="726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lvl="4" marL="2035080" indent="-224640">
              <a:spcBef>
                <a:spcPts val="726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lvl="5" marL="2035080" indent="-224640">
              <a:spcBef>
                <a:spcPts val="726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lvl="6" marL="2035080" indent="-224640">
              <a:spcBef>
                <a:spcPts val="726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9720" y="6246360"/>
            <a:ext cx="21272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89520" y="624636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5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500" spc="-1" strike="noStrike">
                <a:solidFill>
                  <a:srgbClr val="003366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4520" y="6246360"/>
            <a:ext cx="58752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CFE7-E25D-4F9D-BE53-1739CB10C34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13600" y="1271160"/>
            <a:ext cx="8357400" cy="134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6700" spc="-1" strike="noStrike">
                <a:solidFill>
                  <a:srgbClr val="000000"/>
                </a:solidFill>
                <a:latin typeface="Arial"/>
              </a:rPr>
              <a:t>แนวทางการดำเนินงาน              ร</a:t>
            </a:r>
            <a:r>
              <a:rPr b="1" lang="th-TH" sz="6100" spc="-1" strike="noStrike">
                <a:solidFill>
                  <a:srgbClr val="000000"/>
                </a:solidFill>
                <a:latin typeface="Arial"/>
              </a:rPr>
              <a:t>ะบบการควบคุมภายในประจำปี </a:t>
            </a:r>
            <a:r>
              <a:rPr b="1" lang="th-TH" sz="6100" spc="-1" strike="noStrike">
                <a:solidFill>
                  <a:srgbClr val="000000"/>
                </a:solidFill>
                <a:latin typeface="Arial"/>
              </a:rPr>
              <a:t>2555</a:t>
            </a: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598760" y="5182920"/>
            <a:ext cx="73180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2800" spc="-1" strike="noStrike">
                <a:solidFill>
                  <a:srgbClr val="9933ff"/>
                </a:solidFill>
                <a:latin typeface="Arial"/>
              </a:rPr>
              <a:t>                                                   </a:t>
            </a:r>
            <a:r>
              <a:rPr b="1" lang="th-TH" sz="2800" spc="-1" strike="noStrike">
                <a:solidFill>
                  <a:srgbClr val="9933ff"/>
                </a:solidFill>
                <a:latin typeface="Arial"/>
              </a:rPr>
              <a:t>นายกอบชัย   สายทอง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2800" spc="-1" strike="noStrike">
                <a:solidFill>
                  <a:srgbClr val="0000ff"/>
                </a:solidFill>
                <a:latin typeface="Arial"/>
              </a:rPr>
              <a:t>                                          </a:t>
            </a:r>
            <a:r>
              <a:rPr b="1" lang="th-TH" sz="2800" spc="-1" strike="noStrike">
                <a:solidFill>
                  <a:srgbClr val="0000ff"/>
                </a:solidFill>
                <a:latin typeface="Arial"/>
              </a:rPr>
              <a:t>นักจัดการงานทั่วไปชำนาญการ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2800" spc="-1" strike="noStrike">
                <a:solidFill>
                  <a:srgbClr val="3333cc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ตัวยึดหมายเลขภาพนิ่ง 4"/>
          <p:cNvSpPr/>
          <p:nvPr/>
        </p:nvSpPr>
        <p:spPr>
          <a:xfrm>
            <a:off x="74520" y="6246720"/>
            <a:ext cx="5875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44DE-A21F-4E11-A7E5-5FBC99DD307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836640" y="230040"/>
            <a:ext cx="8307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2900" spc="-1" strike="noStrike">
                <a:solidFill>
                  <a:srgbClr val="000000"/>
                </a:solidFill>
                <a:latin typeface="Angsana New"/>
              </a:rPr>
              <a:t>กลุ่ม</a:t>
            </a:r>
            <a:r>
              <a:rPr b="0" lang="th-TH" sz="29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0" lang="th-TH" sz="2900" spc="-1" strike="noStrike">
                <a:solidFill>
                  <a:srgbClr val="000000"/>
                </a:solidFill>
                <a:latin typeface="Angsana New"/>
              </a:rPr>
              <a:t>งาน</a:t>
            </a:r>
            <a:r>
              <a:rPr b="0" lang="th-TH" sz="2900" spc="-1" strike="noStrike">
                <a:solidFill>
                  <a:srgbClr val="000000"/>
                </a:solidFill>
                <a:latin typeface="Angsana New"/>
              </a:rPr>
              <a:t>......................</a:t>
            </a:r>
            <a:br>
              <a:rPr sz="2900"/>
            </a:br>
            <a:r>
              <a:rPr b="0" lang="th-TH" sz="2900" spc="-1" strike="noStrike">
                <a:solidFill>
                  <a:srgbClr val="000000"/>
                </a:solidFill>
                <a:latin typeface="Angsana New"/>
              </a:rPr>
              <a:t>รายงานผลการติดตามการปฏิบัติตามแผนการปรับปรุงการควบคุมภายใน </a:t>
            </a:r>
            <a:br>
              <a:rPr sz="2900"/>
            </a:br>
            <a:r>
              <a:rPr b="0" lang="th-TH" sz="2900" spc="-1" strike="noStrike">
                <a:solidFill>
                  <a:srgbClr val="000000"/>
                </a:solidFill>
                <a:latin typeface="Angsana New"/>
              </a:rPr>
              <a:t>ณ วันที่ </a:t>
            </a:r>
            <a:r>
              <a:rPr b="0" lang="th-TH" sz="2900" spc="-1" strike="noStrike">
                <a:solidFill>
                  <a:srgbClr val="000000"/>
                </a:solidFill>
                <a:latin typeface="Angsana New"/>
              </a:rPr>
              <a:t>30  </a:t>
            </a:r>
            <a:r>
              <a:rPr b="0" lang="th-TH" sz="2900" spc="-1" strike="noStrike">
                <a:solidFill>
                  <a:srgbClr val="000000"/>
                </a:solidFill>
                <a:latin typeface="Angsana New"/>
              </a:rPr>
              <a:t>กันยายน  </a:t>
            </a:r>
            <a:r>
              <a:rPr b="0" lang="th-TH" sz="2900" spc="-1" strike="noStrike">
                <a:solidFill>
                  <a:srgbClr val="000000"/>
                </a:solidFill>
                <a:latin typeface="Angsana New"/>
              </a:rPr>
              <a:t>2555                                </a:t>
            </a:r>
            <a:r>
              <a:rPr b="0" lang="th-TH" sz="2900" spc="-1" strike="noStrike">
                <a:solidFill>
                  <a:srgbClr val="ff0000"/>
                </a:solidFill>
                <a:latin typeface="Angsana New"/>
              </a:rPr>
              <a:t>                                                                          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762120" y="2514600"/>
          <a:ext cx="8165880" cy="3246480"/>
        </p:xfrm>
        <a:graphic>
          <a:graphicData uri="http://schemas.openxmlformats.org/drawingml/2006/table">
            <a:tbl>
              <a:tblPr/>
              <a:tblGrid>
                <a:gridCol w="1066680"/>
                <a:gridCol w="1828800"/>
                <a:gridCol w="1120680"/>
                <a:gridCol w="990720"/>
                <a:gridCol w="838080"/>
                <a:gridCol w="990720"/>
                <a:gridCol w="1330200"/>
              </a:tblGrid>
              <a:tr h="24796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กระบวนการปฏิบัติงาน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โครงการ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กิจกรรม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ด้านของงานที่จะประเมินและวัตถุประสงค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ของการควบคุม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การควบคุม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ที่มีอยู่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การ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ประเมินผล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การควบคุม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ความเสี่ยง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ที่มีอยู่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การ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ปรับปรุง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การ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ควบคุม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กำหนด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เสร็จ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ผู้รับ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ผิดชอบ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วิธีการ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ติดตามแล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สรุปผลการประเมิน</a:t>
                      </a:r>
                      <a:r>
                        <a:rPr b="1" lang="th-TH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/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ข้อคิดเห็น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3928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1)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2)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3)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4)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5)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6)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7)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Text Box 101"/>
          <p:cNvSpPr/>
          <p:nvPr/>
        </p:nvSpPr>
        <p:spPr>
          <a:xfrm>
            <a:off x="7545240" y="1981080"/>
            <a:ext cx="1598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2000" spc="-1" strike="noStrike">
                <a:solidFill>
                  <a:srgbClr val="ff0000"/>
                </a:solidFill>
                <a:latin typeface="Arial"/>
              </a:rPr>
              <a:t>แบบติดตาม ปย</a:t>
            </a:r>
            <a:r>
              <a:rPr b="1" lang="th-TH" sz="2000" spc="-1" strike="noStrike">
                <a:solidFill>
                  <a:srgbClr val="ff0000"/>
                </a:solidFill>
                <a:latin typeface="Arial"/>
              </a:rPr>
              <a:t>. 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Text Box 104"/>
          <p:cNvSpPr/>
          <p:nvPr/>
        </p:nvSpPr>
        <p:spPr>
          <a:xfrm>
            <a:off x="6703920" y="5791320"/>
            <a:ext cx="19843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ชื่อผู้รายงาน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...........................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ตำแหน่ง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................................ 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วันที่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.....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เดือน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.........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พ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ศ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.........        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ตัวยึดหมายเลขภาพนิ่ง 6"/>
          <p:cNvSpPr/>
          <p:nvPr/>
        </p:nvSpPr>
        <p:spPr>
          <a:xfrm>
            <a:off x="84240" y="6243480"/>
            <a:ext cx="587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9B04-4B5A-42E5-8104-EDECADEDFC2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6"/>
          <p:cNvSpPr/>
          <p:nvPr/>
        </p:nvSpPr>
        <p:spPr>
          <a:xfrm>
            <a:off x="1068480" y="2647800"/>
            <a:ext cx="7921440" cy="47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4000" spc="-1" strike="noStrike">
                <a:solidFill>
                  <a:srgbClr val="0000ff"/>
                </a:solidFill>
                <a:latin typeface="Arial"/>
              </a:rPr>
              <a:t>2. </a:t>
            </a:r>
            <a:r>
              <a:rPr b="0" lang="th-TH" sz="4000" spc="-1" strike="noStrike">
                <a:solidFill>
                  <a:srgbClr val="0000ff"/>
                </a:solidFill>
                <a:latin typeface="Arial"/>
              </a:rPr>
              <a:t>ประเมินองค์ประกอบของการควบคุมภายใน                             </a:t>
            </a:r>
            <a:r>
              <a:rPr b="0" lang="th-TH" sz="4000" spc="-1" strike="noStrike">
                <a:solidFill>
                  <a:srgbClr val="0000ff"/>
                </a:solidFill>
                <a:latin typeface="Arial"/>
              </a:rPr>
              <a:t>(5 </a:t>
            </a:r>
            <a:r>
              <a:rPr b="0" lang="th-TH" sz="4000" spc="-1" strike="noStrike">
                <a:solidFill>
                  <a:srgbClr val="0000ff"/>
                </a:solidFill>
                <a:latin typeface="Arial"/>
              </a:rPr>
              <a:t>องค์ประกอบ</a:t>
            </a:r>
            <a:r>
              <a:rPr b="0" lang="th-TH" sz="40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0" lang="th-TH" sz="40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0" lang="th-TH" sz="4000" spc="-1" strike="noStrike">
                <a:solidFill>
                  <a:srgbClr val="c00000"/>
                </a:solidFill>
                <a:latin typeface="Arial"/>
              </a:rPr>
              <a:t>อยู่ในหนังสือหน้า </a:t>
            </a:r>
            <a:r>
              <a:rPr b="0" lang="th-TH" sz="4000" spc="-1" strike="noStrike">
                <a:solidFill>
                  <a:srgbClr val="c00000"/>
                </a:solidFill>
                <a:latin typeface="Arial"/>
              </a:rPr>
              <a:t>87-96)                              </a:t>
            </a:r>
            <a:r>
              <a:rPr b="0" lang="th-TH" sz="4000" spc="-1" strike="noStrike">
                <a:solidFill>
                  <a:srgbClr val="0000ff"/>
                </a:solidFill>
                <a:latin typeface="Arial"/>
              </a:rPr>
              <a:t>แล้ว</a:t>
            </a:r>
            <a:r>
              <a:rPr b="0" lang="th-TH" sz="4000" spc="-1" strike="noStrike">
                <a:solidFill>
                  <a:srgbClr val="ff0000"/>
                </a:solidFill>
                <a:latin typeface="Arial"/>
              </a:rPr>
              <a:t>สรุปลงในแบบ ปย</a:t>
            </a:r>
            <a:r>
              <a:rPr b="0" lang="th-TH" sz="4000" spc="-1" strike="noStrike">
                <a:solidFill>
                  <a:srgbClr val="ff0000"/>
                </a:solidFill>
                <a:latin typeface="Arial"/>
              </a:rPr>
              <a:t>. 1 </a:t>
            </a:r>
            <a:r>
              <a:rPr b="0" lang="th-TH" sz="40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th-TH" sz="4000" spc="-1" strike="noStrike">
                <a:solidFill>
                  <a:srgbClr val="0000ff"/>
                </a:solidFill>
                <a:latin typeface="Arial"/>
              </a:rPr>
              <a:t>อยู่ในหนังสือหน้า </a:t>
            </a:r>
            <a:r>
              <a:rPr b="0" lang="th-TH" sz="4000" spc="-1" strike="noStrike">
                <a:solidFill>
                  <a:srgbClr val="0000ff"/>
                </a:solidFill>
                <a:latin typeface="Arial"/>
              </a:rPr>
              <a:t>58)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5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ตัวยึดหมายเลขภาพนิ่ง 3"/>
          <p:cNvSpPr/>
          <p:nvPr/>
        </p:nvSpPr>
        <p:spPr>
          <a:xfrm>
            <a:off x="84240" y="6243480"/>
            <a:ext cx="587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73C6-0C83-46DE-838D-650531743B9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762120" y="610920"/>
            <a:ext cx="8154720" cy="14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1680"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2900" spc="-1" strike="noStrike">
                <a:solidFill>
                  <a:srgbClr val="ff0066"/>
                </a:solidFill>
                <a:latin typeface="Angsana New"/>
              </a:rPr>
              <a:t>กลุ่ม</a:t>
            </a:r>
            <a:r>
              <a:rPr b="1" lang="th-TH" sz="2900" spc="-1" strike="noStrike">
                <a:solidFill>
                  <a:srgbClr val="ff0066"/>
                </a:solidFill>
                <a:latin typeface="Angsana New"/>
              </a:rPr>
              <a:t>/</a:t>
            </a:r>
            <a:r>
              <a:rPr b="1" lang="th-TH" sz="2900" spc="-1" strike="noStrike">
                <a:solidFill>
                  <a:srgbClr val="ff0066"/>
                </a:solidFill>
                <a:latin typeface="Angsana New"/>
              </a:rPr>
              <a:t>งาน</a:t>
            </a:r>
            <a:r>
              <a:rPr b="1" lang="th-TH" sz="2900" spc="-1" strike="noStrike">
                <a:solidFill>
                  <a:srgbClr val="ff0066"/>
                </a:solidFill>
                <a:latin typeface="Angsana New"/>
              </a:rPr>
              <a:t>.......................................................</a:t>
            </a:r>
            <a:r>
              <a:rPr b="1" lang="th-TH" sz="2900" spc="-1" strike="noStrike">
                <a:solidFill>
                  <a:srgbClr val="ff0066"/>
                </a:solidFill>
                <a:latin typeface="Angsana New"/>
              </a:rPr>
              <a:t>	</a:t>
            </a:r>
            <a:br>
              <a:rPr sz="2900"/>
            </a:br>
            <a:r>
              <a:rPr b="1" lang="th-TH" sz="2900" spc="-1" strike="noStrike">
                <a:solidFill>
                  <a:srgbClr val="ff0066"/>
                </a:solidFill>
                <a:latin typeface="Angsana New"/>
              </a:rPr>
              <a:t>รายงานผลการประเมินองค์ประกอบของการควบคุมภายใน</a:t>
            </a:r>
            <a:br>
              <a:rPr sz="2900"/>
            </a:br>
            <a:r>
              <a:rPr b="1" lang="th-TH" sz="2900" spc="-1" strike="noStrike">
                <a:solidFill>
                  <a:srgbClr val="ff0066"/>
                </a:solidFill>
                <a:latin typeface="Angsana New"/>
              </a:rPr>
              <a:t>ณ  วันที่  </a:t>
            </a:r>
            <a:r>
              <a:rPr b="1" lang="th-TH" sz="2900" spc="-1" strike="noStrike">
                <a:solidFill>
                  <a:srgbClr val="ff0066"/>
                </a:solidFill>
                <a:latin typeface="Angsana New"/>
              </a:rPr>
              <a:t>30 </a:t>
            </a:r>
            <a:r>
              <a:rPr b="1" lang="th-TH" sz="2900" spc="-1" strike="noStrike">
                <a:solidFill>
                  <a:srgbClr val="ff0066"/>
                </a:solidFill>
                <a:latin typeface="Angsana New"/>
              </a:rPr>
              <a:t>กันยายน  </a:t>
            </a:r>
            <a:r>
              <a:rPr b="1" lang="th-TH" sz="2900" spc="-1" strike="noStrike">
                <a:solidFill>
                  <a:srgbClr val="ff0066"/>
                </a:solidFill>
                <a:latin typeface="Angsana New"/>
              </a:rPr>
              <a:t>2555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915840" y="2516040"/>
            <a:ext cx="75409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219320" y="2514600"/>
          <a:ext cx="7315200" cy="3235320"/>
        </p:xfrm>
        <a:graphic>
          <a:graphicData uri="http://schemas.openxmlformats.org/drawingml/2006/table">
            <a:tbl>
              <a:tblPr/>
              <a:tblGrid>
                <a:gridCol w="3581280"/>
                <a:gridCol w="3733920"/>
              </a:tblGrid>
              <a:tr h="8535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องค์ประกอบของการควบคุมภายใน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ผลการประเมิน </a:t>
                      </a:r>
                      <a:r>
                        <a:rPr b="1" lang="th-TH" sz="2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/ </a:t>
                      </a:r>
                      <a:r>
                        <a:rPr b="1" lang="th-TH" sz="2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ข้อสรุป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295080">
                <a:tc>
                  <a:txBody>
                    <a:bodyPr anchor="t">
                      <a:noAutofit/>
                    </a:bodyPr>
                    <a:p>
                      <a:pPr marL="458640" indent="-458640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 </a:t>
                      </a:r>
                      <a:r>
                        <a:rPr b="1" lang="th-TH" sz="2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สภาพแวดล้อมการควบคุม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458640" indent="-458640">
                        <a:spcBef>
                          <a:spcPts val="7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458640" indent="-458640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 </a:t>
                      </a:r>
                      <a:r>
                        <a:rPr b="1" lang="th-TH" sz="2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การประเมินความเสี่ยง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458640" indent="-458640">
                        <a:spcBef>
                          <a:spcPts val="7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458640" indent="-458640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. </a:t>
                      </a:r>
                      <a:r>
                        <a:rPr b="1" lang="th-TH" sz="2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กิจกรรมการควบคุม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458640" indent="-458640">
                        <a:spcBef>
                          <a:spcPts val="7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458640" indent="-458640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. </a:t>
                      </a:r>
                      <a:r>
                        <a:rPr b="1" lang="th-TH" sz="2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สารสนเทศและการสื่อสาร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458640" indent="-458640">
                        <a:spcBef>
                          <a:spcPts val="7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458640" indent="-458640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. </a:t>
                      </a:r>
                      <a:r>
                        <a:rPr b="1" lang="th-TH" sz="2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การติดตามประเมินผล</a:t>
                      </a:r>
                      <a:r>
                        <a:rPr b="0" lang="th-TH" sz="2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Text Box 48"/>
          <p:cNvSpPr/>
          <p:nvPr/>
        </p:nvSpPr>
        <p:spPr>
          <a:xfrm>
            <a:off x="8075520" y="2055960"/>
            <a:ext cx="914400" cy="3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2300" spc="-1" strike="noStrike">
                <a:solidFill>
                  <a:srgbClr val="ff0000"/>
                </a:solidFill>
                <a:latin typeface="Angsana New"/>
              </a:rPr>
              <a:t>ปย</a:t>
            </a:r>
            <a:r>
              <a:rPr b="1" lang="th-TH" sz="2300" spc="-1" strike="noStrike">
                <a:solidFill>
                  <a:srgbClr val="ff0000"/>
                </a:solidFill>
                <a:latin typeface="Angsana New"/>
              </a:rPr>
              <a:t>. 1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Text Box 51"/>
          <p:cNvSpPr/>
          <p:nvPr/>
        </p:nvSpPr>
        <p:spPr>
          <a:xfrm>
            <a:off x="6630840" y="5791320"/>
            <a:ext cx="19782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ชื่อผู้รายงาน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...........................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ตำแหน่ง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................................ 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วันที่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.....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เดือน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.........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พ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ศ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.........        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ตัวยึดหมายเลขภาพนิ่ง 7"/>
          <p:cNvSpPr/>
          <p:nvPr/>
        </p:nvSpPr>
        <p:spPr>
          <a:xfrm>
            <a:off x="84240" y="6243480"/>
            <a:ext cx="587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6ADB-DA31-464D-90D5-B23EC38CD19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0"/>
          <p:cNvSpPr/>
          <p:nvPr/>
        </p:nvSpPr>
        <p:spPr>
          <a:xfrm>
            <a:off x="1042920" y="2373480"/>
            <a:ext cx="7921800" cy="33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4400" spc="-1" strike="noStrike">
                <a:solidFill>
                  <a:srgbClr val="003366"/>
                </a:solidFill>
                <a:latin typeface="Angsana New"/>
              </a:rPr>
              <a:t>3.</a:t>
            </a:r>
            <a:r>
              <a:rPr b="0" lang="th-TH" sz="4400" spc="-1" strike="noStrike">
                <a:solidFill>
                  <a:srgbClr val="ff0066"/>
                </a:solidFill>
                <a:latin typeface="Angsana New"/>
              </a:rPr>
              <a:t> </a:t>
            </a:r>
            <a:r>
              <a:rPr b="1" lang="th-TH" sz="4400" spc="-1" strike="noStrike">
                <a:solidFill>
                  <a:srgbClr val="003366"/>
                </a:solidFill>
                <a:latin typeface="Angsana New"/>
              </a:rPr>
              <a:t>ประเมินการควบคุมภายในด้วยตนเอง</a:t>
            </a:r>
            <a:r>
              <a:rPr b="1" lang="th-TH" sz="4400" spc="-1" strike="noStrike">
                <a:solidFill>
                  <a:srgbClr val="ff0066"/>
                </a:solidFill>
                <a:latin typeface="Angsana New"/>
              </a:rPr>
              <a:t> </a:t>
            </a:r>
            <a:r>
              <a:rPr b="1" lang="th-TH" sz="4400" spc="-1" strike="noStrike">
                <a:solidFill>
                  <a:srgbClr val="ff0066"/>
                </a:solidFill>
                <a:latin typeface="Angsana New"/>
              </a:rPr>
              <a:t>(</a:t>
            </a:r>
            <a:r>
              <a:rPr b="1" lang="en-US" sz="4400" spc="-1" strike="noStrike">
                <a:solidFill>
                  <a:srgbClr val="ff0066"/>
                </a:solidFill>
                <a:latin typeface="Angsana New"/>
              </a:rPr>
              <a:t> CSA</a:t>
            </a:r>
            <a:r>
              <a:rPr b="1" lang="th-TH" sz="4400" spc="-1" strike="noStrike">
                <a:solidFill>
                  <a:srgbClr val="ff0066"/>
                </a:solidFill>
                <a:latin typeface="Angsana New"/>
              </a:rPr>
              <a:t>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1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ตัวยึดหมายเลขภาพนิ่ง 3"/>
          <p:cNvSpPr/>
          <p:nvPr/>
        </p:nvSpPr>
        <p:spPr>
          <a:xfrm>
            <a:off x="84240" y="6243480"/>
            <a:ext cx="587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3008-7F45-47F7-B9ED-9C90A22633F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761760" y="228564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2400" spc="-1" strike="noStrike">
                <a:solidFill>
                  <a:srgbClr val="ff3300"/>
                </a:solidFill>
                <a:latin typeface="Tahoma"/>
                <a:cs typeface="Tahoma"/>
              </a:rPr>
              <a:t>หลักการ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Tahoma"/>
              </a:rPr>
              <a:t>: CSA 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cs typeface="Tahoma"/>
              </a:rPr>
              <a:t>เป็นกระบวนการสร้างความรับผิดชอบในการควบคุม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	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	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    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	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  ภายในให้แก่ทุกคนที่เป็นเจ้าของงานนั้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2400" spc="-1" strike="noStrike">
                <a:solidFill>
                  <a:srgbClr val="ff3300"/>
                </a:solidFill>
                <a:latin typeface="Tahoma"/>
                <a:cs typeface="Tahoma"/>
              </a:rPr>
              <a:t>วิธีการ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   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	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cs typeface="Tahoma"/>
              </a:rPr>
              <a:t>๑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. </a:t>
            </a:r>
            <a:r>
              <a:rPr b="0" lang="th-TH" sz="2200" spc="-1" strike="noStrike">
                <a:solidFill>
                  <a:srgbClr val="003366"/>
                </a:solidFill>
                <a:latin typeface="Tahoma"/>
                <a:cs typeface="Tahoma"/>
              </a:rPr>
              <a:t>นำกระบวนการปฏิบัติงานกับวัตถุประสงค์ของงานมาเชื่อมโยงกัน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	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cs typeface="Tahoma"/>
              </a:rPr>
              <a:t>๒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. 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cs typeface="Tahoma"/>
              </a:rPr>
              <a:t>ระบุการควบคุมภายในที่มีอยู่ของงานนั้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	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cs typeface="Tahoma"/>
              </a:rPr>
              <a:t>๓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. 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cs typeface="Tahoma"/>
              </a:rPr>
              <a:t>ประเมินความเสี่ยงที่ยังมีอยู่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2400" spc="-1" strike="noStrike">
                <a:solidFill>
                  <a:srgbClr val="ff3300"/>
                </a:solidFill>
                <a:latin typeface="Tahoma"/>
                <a:cs typeface="Tahoma"/>
              </a:rPr>
              <a:t>ผลที่ได้</a:t>
            </a:r>
            <a:r>
              <a:rPr b="1" lang="th-TH" sz="2400" spc="-1" strike="noStrike">
                <a:solidFill>
                  <a:srgbClr val="ff3300"/>
                </a:solidFill>
                <a:latin typeface="Tahoma"/>
                <a:ea typeface="Tahoma"/>
              </a:rPr>
              <a:t>/</a:t>
            </a:r>
            <a:r>
              <a:rPr b="1" lang="th-TH" sz="2400" spc="-1" strike="noStrike">
                <a:solidFill>
                  <a:srgbClr val="ff3300"/>
                </a:solidFill>
                <a:latin typeface="Tahoma"/>
                <a:cs typeface="Tahoma"/>
              </a:rPr>
              <a:t>ประโยชน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	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cs typeface="Tahoma"/>
              </a:rPr>
              <a:t>๑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.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Tahoma"/>
              </a:rPr>
              <a:t> 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cs typeface="Tahoma"/>
              </a:rPr>
              <a:t>ผู้ปฏิบัติเข้าใจกระบวนการทำงานและวัตถุประสงค์ของงานนั้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	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cs typeface="Tahoma"/>
              </a:rPr>
              <a:t>๒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. 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cs typeface="Tahoma"/>
              </a:rPr>
              <a:t>เข้าใจความเสี่ยงที่มีผลกระทบต่อวัตถุประสงค์ของงา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	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cs typeface="Tahoma"/>
              </a:rPr>
              <a:t>๓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. 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cs typeface="Tahoma"/>
              </a:rPr>
              <a:t>สามารถกำหนดการควบคุมภายในที่จำเป็นเพื่อลดความเสี่ยง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        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cs typeface="Tahoma"/>
              </a:rPr>
              <a:t>ในระดับยอมรับได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	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cs typeface="Tahoma"/>
              </a:rPr>
              <a:t>๔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. 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cs typeface="Tahoma"/>
              </a:rPr>
              <a:t>สามารถกำหนดแผนปฏิบัติเพื่อปรับปรุงการควบคุมภายในให้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	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cs typeface="Tahoma"/>
              </a:rPr>
              <a:t>เหมาะสม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	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	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     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	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	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497240" y="963360"/>
            <a:ext cx="6310080" cy="679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2200" spc="-1" strike="noStrike">
                <a:solidFill>
                  <a:srgbClr val="ff99ff"/>
                </a:solidFill>
                <a:latin typeface="Tahoma"/>
                <a:cs typeface="Tahoma"/>
              </a:rPr>
              <a:t>การประเมินการควบคุมด้วยตนเอง</a:t>
            </a:r>
            <a:br>
              <a:rPr sz="2200"/>
            </a:br>
            <a:r>
              <a:rPr b="1" lang="th-TH" sz="2200" spc="-1" strike="noStrike">
                <a:solidFill>
                  <a:srgbClr val="ff99ff"/>
                </a:solidFill>
                <a:latin typeface="Tahoma"/>
                <a:ea typeface="Tahoma"/>
              </a:rPr>
              <a:t> </a:t>
            </a:r>
            <a:r>
              <a:rPr b="1" lang="en-US" sz="2200" spc="-1" strike="noStrike">
                <a:solidFill>
                  <a:srgbClr val="ff99ff"/>
                </a:solidFill>
                <a:latin typeface="Tahoma"/>
                <a:ea typeface="Tahoma"/>
              </a:rPr>
              <a:t>Control self Assessment </a:t>
            </a:r>
            <a:r>
              <a:rPr b="1" lang="th-TH" sz="2200" spc="-1" strike="noStrike">
                <a:solidFill>
                  <a:srgbClr val="ff99ff"/>
                </a:solidFill>
                <a:latin typeface="Tahoma"/>
                <a:ea typeface="Tahoma"/>
              </a:rPr>
              <a:t>(</a:t>
            </a:r>
            <a:r>
              <a:rPr b="1" lang="en-US" sz="2200" spc="-1" strike="noStrike">
                <a:solidFill>
                  <a:srgbClr val="ff99ff"/>
                </a:solidFill>
                <a:latin typeface="Tahoma"/>
                <a:ea typeface="Tahoma"/>
              </a:rPr>
              <a:t>CSA</a:t>
            </a:r>
            <a:r>
              <a:rPr b="1" lang="th-TH" sz="2200" spc="-1" strike="noStrike">
                <a:solidFill>
                  <a:srgbClr val="ff99ff"/>
                </a:solidFill>
                <a:latin typeface="Tahoma"/>
                <a:ea typeface="Tahoma"/>
              </a:rPr>
              <a:t>)</a:t>
            </a: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871560" y="372960"/>
            <a:ext cx="374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700" spc="-1" strike="noStrike">
                <a:solidFill>
                  <a:srgbClr val="003366"/>
                </a:solidFill>
                <a:latin typeface="Wingdings"/>
                <a:ea typeface="Wingdings"/>
              </a:rPr>
              <a:t>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ตัวยึดหมายเลขภาพนิ่ง 6"/>
          <p:cNvSpPr/>
          <p:nvPr/>
        </p:nvSpPr>
        <p:spPr>
          <a:xfrm>
            <a:off x="84240" y="6243480"/>
            <a:ext cx="587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1F2D-084E-4FE7-8551-1B51BE6260F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81400" cy="9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3500" spc="-1" strike="noStrike">
                <a:solidFill>
                  <a:srgbClr val="006666"/>
                </a:solidFill>
                <a:latin typeface="Arial"/>
              </a:rPr>
              <a:t>ขั้นตอนการประเมินความเสี่ยง</a:t>
            </a: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837720" y="2514240"/>
            <a:ext cx="8153640" cy="3257640"/>
          </a:xfrm>
          <a:prstGeom prst="rect">
            <a:avLst/>
          </a:prstGeom>
          <a:solidFill>
            <a:srgbClr val="adebe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4400" spc="-1" strike="noStrike" u="sng">
                <a:solidFill>
                  <a:srgbClr val="7030a0"/>
                </a:solidFill>
                <a:uFillTx/>
                <a:latin typeface="Arial"/>
              </a:rPr>
              <a:t>ขั้นตอนที่ </a:t>
            </a:r>
            <a:r>
              <a:rPr b="1" lang="en-US" sz="4400" spc="-1" strike="noStrike" u="sng">
                <a:solidFill>
                  <a:srgbClr val="7030a0"/>
                </a:solidFill>
                <a:uFillTx/>
                <a:latin typeface="Arial"/>
              </a:rPr>
              <a:t>1</a:t>
            </a: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.</a:t>
            </a:r>
            <a:r>
              <a:rPr b="0" lang="th-TH" sz="4400" spc="-1" strike="noStrike">
                <a:solidFill>
                  <a:srgbClr val="0000ff"/>
                </a:solidFill>
                <a:latin typeface="Arial"/>
              </a:rPr>
              <a:t>ใ</a:t>
            </a:r>
            <a:r>
              <a:rPr b="1" lang="th-TH" sz="4400" spc="-1" strike="noStrike">
                <a:solidFill>
                  <a:srgbClr val="0000ff"/>
                </a:solidFill>
                <a:latin typeface="Arial"/>
              </a:rPr>
              <a:t>ห้วิเคราะห์กิจกรรมที่มีความเสี่ยงสูง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ตัวยึดหมายเลขภาพนิ่ง 6"/>
          <p:cNvSpPr/>
          <p:nvPr/>
        </p:nvSpPr>
        <p:spPr>
          <a:xfrm>
            <a:off x="84240" y="6243480"/>
            <a:ext cx="587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DC5F-E4BB-42CA-B837-DDFFA20A053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81400" cy="998280"/>
          </a:xfrm>
          <a:prstGeom prst="rect">
            <a:avLst/>
          </a:prstGeom>
          <a:solidFill>
            <a:srgbClr val="aad4ff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3500" spc="-1" strike="noStrike">
                <a:solidFill>
                  <a:srgbClr val="006666"/>
                </a:solidFill>
                <a:latin typeface="Arial"/>
              </a:rPr>
              <a:t>ขั้นตอนการประเมินความเสี่ยง</a:t>
            </a: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90720" y="2514600"/>
            <a:ext cx="777240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4400" spc="-1" strike="noStrike">
                <a:solidFill>
                  <a:srgbClr val="5dae5d"/>
                </a:solidFill>
                <a:latin typeface="Arial"/>
              </a:rPr>
              <a:t> </a:t>
            </a:r>
            <a:r>
              <a:rPr b="1" lang="th-TH" sz="4400" spc="-1" strike="noStrike" u="sng">
                <a:solidFill>
                  <a:srgbClr val="0000ff"/>
                </a:solidFill>
                <a:uFillTx/>
                <a:latin typeface="Arial"/>
              </a:rPr>
              <a:t>ขั้นตอนที่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2. </a:t>
            </a:r>
            <a:r>
              <a:rPr b="1" lang="th-TH" sz="4400" spc="-1" strike="noStrike">
                <a:solidFill>
                  <a:srgbClr val="0000ff"/>
                </a:solidFill>
                <a:latin typeface="Arial"/>
              </a:rPr>
              <a:t>ทำความเข้าใจถึงผลสำเร็จ    </a:t>
            </a:r>
            <a:r>
              <a:rPr b="1" lang="th-TH" sz="4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ut come</a:t>
            </a:r>
            <a:r>
              <a:rPr b="1" lang="th-TH" sz="4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th-TH" sz="4400" spc="-1" strike="noStrike">
                <a:solidFill>
                  <a:srgbClr val="0000ff"/>
                </a:solidFill>
                <a:latin typeface="Arial"/>
              </a:rPr>
              <a:t>ของภารกิจ</a:t>
            </a:r>
            <a:r>
              <a:rPr b="1" lang="th-TH" sz="4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th-TH" sz="4400" spc="-1" strike="noStrike">
                <a:solidFill>
                  <a:srgbClr val="0000ff"/>
                </a:solidFill>
                <a:latin typeface="Arial"/>
              </a:rPr>
              <a:t>กิจกรรมที่จะประเมินความเสี่ยงว่าต้องการให้เกิดผลสำเร็จอะไร</a:t>
            </a:r>
            <a:r>
              <a:rPr b="1" lang="th-TH" sz="4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th-TH" sz="4400" spc="-1" strike="noStrike">
                <a:solidFill>
                  <a:srgbClr val="0000ff"/>
                </a:solidFill>
                <a:latin typeface="Arial"/>
              </a:rPr>
              <a:t>อย่างไร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11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ตัวยึดหมายเลขภาพนิ่ง 5"/>
          <p:cNvSpPr/>
          <p:nvPr/>
        </p:nvSpPr>
        <p:spPr>
          <a:xfrm>
            <a:off x="84240" y="6243480"/>
            <a:ext cx="587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A392-CBCA-408A-9ACB-4076A6DB302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81400" cy="998280"/>
          </a:xfrm>
          <a:prstGeom prst="rect">
            <a:avLst/>
          </a:prstGeom>
          <a:solidFill>
            <a:srgbClr val="eff9f9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3500" spc="-1" strike="noStrike">
                <a:solidFill>
                  <a:srgbClr val="006666"/>
                </a:solidFill>
                <a:latin typeface="Arial"/>
              </a:rPr>
              <a:t>ขั้นตอนการประเมินความเสี่ยง</a:t>
            </a: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14040" y="2438280"/>
            <a:ext cx="8001000" cy="3657600"/>
          </a:xfrm>
          <a:prstGeom prst="rect">
            <a:avLst/>
          </a:prstGeom>
          <a:solidFill>
            <a:srgbClr val="c2e0c2"/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4400" spc="-1" strike="noStrike" u="sng">
                <a:solidFill>
                  <a:srgbClr val="0a85ff"/>
                </a:solidFill>
                <a:uFillTx/>
                <a:latin typeface="Arial"/>
              </a:rPr>
              <a:t>ขั้นตอนที่</a:t>
            </a:r>
            <a:r>
              <a:rPr b="1" lang="th-TH" sz="4400" spc="-1" strike="noStrike">
                <a:solidFill>
                  <a:srgbClr val="0a85ff"/>
                </a:solidFill>
                <a:latin typeface="Arial"/>
              </a:rPr>
              <a:t> </a:t>
            </a:r>
            <a:r>
              <a:rPr b="1" lang="th-TH" sz="4400" spc="-1" strike="noStrike">
                <a:solidFill>
                  <a:srgbClr val="0a85ff"/>
                </a:solidFill>
                <a:latin typeface="Arial"/>
              </a:rPr>
              <a:t>3</a:t>
            </a:r>
            <a:r>
              <a:rPr b="1" lang="th-TH" sz="4400" spc="-1" strike="noStrike">
                <a:solidFill>
                  <a:srgbClr val="001f40"/>
                </a:solidFill>
                <a:latin typeface="Arial"/>
              </a:rPr>
              <a:t>. </a:t>
            </a:r>
            <a:r>
              <a:rPr b="1" lang="th-TH" sz="4400" spc="-1" strike="noStrike">
                <a:solidFill>
                  <a:srgbClr val="001f40"/>
                </a:solidFill>
                <a:latin typeface="Arial"/>
              </a:rPr>
              <a:t>ทำความเข้าใจในแต่ละขั้นตอนหรือกระบวนการปฏิบัติที่จะทำให้</a:t>
            </a:r>
            <a:br>
              <a:rPr sz="4400"/>
            </a:br>
            <a:r>
              <a:rPr b="1" lang="th-TH" sz="4400" spc="-1" strike="noStrike">
                <a:solidFill>
                  <a:srgbClr val="001f40"/>
                </a:solidFill>
                <a:latin typeface="Arial"/>
              </a:rPr>
              <a:t>ภารกิจ</a:t>
            </a:r>
            <a:r>
              <a:rPr b="1" lang="th-TH" sz="4400" spc="-1" strike="noStrike">
                <a:solidFill>
                  <a:srgbClr val="001f40"/>
                </a:solidFill>
                <a:latin typeface="Arial"/>
              </a:rPr>
              <a:t>/</a:t>
            </a:r>
            <a:r>
              <a:rPr b="1" lang="th-TH" sz="4400" spc="-1" strike="noStrike">
                <a:solidFill>
                  <a:srgbClr val="001f40"/>
                </a:solidFill>
                <a:latin typeface="Arial"/>
              </a:rPr>
              <a:t>กิจกรรมนั้นสำเร็จมีขั้นตอนอะไรบ้าง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4400" spc="-1" strike="noStrike" u="sng">
                <a:solidFill>
                  <a:srgbClr val="0a85ff"/>
                </a:solidFill>
                <a:uFillTx/>
                <a:latin typeface="Arial"/>
              </a:rPr>
              <a:t>ขั้นตอนที่ </a:t>
            </a:r>
            <a:r>
              <a:rPr b="1" lang="th-TH" sz="4400" spc="-1" strike="noStrike" u="sng">
                <a:solidFill>
                  <a:srgbClr val="0a85ff"/>
                </a:solidFill>
                <a:uFillTx/>
                <a:latin typeface="Arial"/>
              </a:rPr>
              <a:t>4. </a:t>
            </a:r>
            <a:r>
              <a:rPr b="1" lang="th-TH" sz="4400" spc="-1" strike="noStrike">
                <a:solidFill>
                  <a:srgbClr val="004d4d"/>
                </a:solidFill>
                <a:latin typeface="Arial"/>
              </a:rPr>
              <a:t>แต่ละขั้นตอนมีวัตถุประสงค์ความสำเร็จอย่างไร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spcBef>
                <a:spcPts val="11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ตัวยึดหมายเลขภาพนิ่ง 5"/>
          <p:cNvSpPr/>
          <p:nvPr/>
        </p:nvSpPr>
        <p:spPr>
          <a:xfrm>
            <a:off x="84240" y="6243480"/>
            <a:ext cx="587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6EB8-E88E-4790-B698-3BF68E2C502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834120" y="834120"/>
            <a:ext cx="7781400" cy="998280"/>
          </a:xfrm>
          <a:prstGeom prst="rect">
            <a:avLst/>
          </a:prstGeom>
          <a:solidFill>
            <a:srgbClr val="eff9f9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ขั้นตอนการประเมินความเสี่ยง</a:t>
            </a: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914400" y="2514600"/>
            <a:ext cx="8229600" cy="3214800"/>
          </a:xfrm>
          <a:prstGeom prst="rect">
            <a:avLst/>
          </a:prstGeom>
          <a:solidFill>
            <a:srgbClr val="c2e0c2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4400" spc="-1" strike="noStrike" u="sng">
                <a:solidFill>
                  <a:srgbClr val="000000"/>
                </a:solidFill>
                <a:uFillTx/>
                <a:latin typeface="Arial"/>
              </a:rPr>
              <a:t>ขั้นตอนที่ 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พิจารณาว่าถ้าไม่เป็นไปตามวัตถุประสงค์ จะเกิดจากสาเหตุ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ระบุปัจจัยเสี่ยง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อะไรบ้าง   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1.....  2....3...</a:t>
            </a:r>
            <a:br>
              <a:rPr sz="4400"/>
            </a:b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เป็นปัจจัยภายใน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ภายนอก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ตัวยึดหมายเลขภาพนิ่ง 5"/>
          <p:cNvSpPr/>
          <p:nvPr/>
        </p:nvSpPr>
        <p:spPr>
          <a:xfrm>
            <a:off x="84240" y="6243480"/>
            <a:ext cx="587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DFB6-D800-465F-BA6E-73E71196626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457200" y="1285920"/>
          <a:ext cx="8258040" cy="5643360"/>
        </p:xfrm>
        <a:graphic>
          <a:graphicData uri="http://schemas.openxmlformats.org/drawingml/2006/table">
            <a:tbl>
              <a:tblPr/>
              <a:tblGrid>
                <a:gridCol w="2752560"/>
                <a:gridCol w="2752920"/>
                <a:gridCol w="275256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003366"/>
                          </a:solidFill>
                          <a:latin typeface="Angsana New"/>
                          <a:cs typeface="Times New Roman"/>
                        </a:rPr>
                        <a:t>ประเภทความเสี่ยง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003366"/>
                          </a:solidFill>
                          <a:latin typeface="Angsana New"/>
                          <a:cs typeface="Times New Roman"/>
                        </a:rPr>
                        <a:t>ลักษณะเกี่ยวกับ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eb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003366"/>
                          </a:solidFill>
                          <a:latin typeface="Angsana New"/>
                          <a:cs typeface="Times New Roman"/>
                        </a:rPr>
                        <a:t>สาเหตุที่อาจเกิดขึ้น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225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h-TH" sz="1800" spc="-1" strike="noStrike">
                          <a:solidFill>
                            <a:srgbClr val="000000"/>
                          </a:solidFill>
                          <a:latin typeface="Angsana New"/>
                          <a:cs typeface="Times New Roman"/>
                        </a:rPr>
                        <a:t>ความเสี่ยงด้านการปฏิบัติงาน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ngsana New"/>
                          <a:cs typeface="Times New Roman"/>
                        </a:rPr>
                        <a:t>บุคลากรในหน่วยงาน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d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-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ngsana New"/>
                          <a:cs typeface="Times New Roman"/>
                        </a:rPr>
                        <a:t>ขาดทักษะ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, 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ngsana New"/>
                          <a:cs typeface="Times New Roman"/>
                        </a:rPr>
                        <a:t>ความชำนาญและความรู้เฉพาะทาง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8f1e8"/>
                    </a:solidFill>
                  </a:tcPr>
                </a:tc>
              </a:tr>
              <a:tr h="138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ngsana New"/>
                          <a:cs typeface="Times New Roman"/>
                        </a:rPr>
                        <a:t>ความปลอดภัย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-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ngsana New"/>
                          <a:cs typeface="Times New Roman"/>
                        </a:rPr>
                        <a:t>เกิดอุบัติเหตุ หรือได้รับอันตรายจากการปฏิบัติงาน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</a:tr>
              <a:tr h="95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ngsana New"/>
                          <a:cs typeface="Times New Roman"/>
                        </a:rPr>
                        <a:t>เทคโนโลยี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/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ngsana New"/>
                          <a:cs typeface="Times New Roman"/>
                        </a:rPr>
                        <a:t>นวัตกรรม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9d5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-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ngsana New"/>
                          <a:cs typeface="Times New Roman"/>
                        </a:rPr>
                        <a:t>เทคโนโลยีล้าสมัย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-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ngsana New"/>
                          <a:cs typeface="Times New Roman"/>
                        </a:rPr>
                        <a:t>ถูกละเมิดลิขสิทธิ์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ad4ff"/>
                    </a:solidFill>
                  </a:tcPr>
                </a:tc>
              </a:tr>
              <a:tr h="124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ngsana New"/>
                          <a:cs typeface="Times New Roman"/>
                        </a:rPr>
                        <a:t>สิ่งแวดล้อม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bf5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-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ngsana New"/>
                          <a:cs typeface="Times New Roman"/>
                        </a:rPr>
                        <a:t>สร้างมลพิษแก่ชุมชนรอบข้าง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-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ngsana New"/>
                          <a:cs typeface="Times New Roman"/>
                        </a:rPr>
                        <a:t>สร้างความเดือดร้อนแก่ประชาชน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5" name=""/>
          <p:cNvSpPr txBox="1"/>
          <p:nvPr/>
        </p:nvSpPr>
        <p:spPr>
          <a:xfrm>
            <a:off x="605520" y="300600"/>
            <a:ext cx="77814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3500" spc="-1" strike="noStrike">
                <a:solidFill>
                  <a:srgbClr val="006666"/>
                </a:solidFill>
                <a:latin typeface="Arial"/>
              </a:rPr>
              <a:t>ตัวอย่างการระบุปัจจัยเสี่ยง</a:t>
            </a: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ตัวยึดหมายเลขภาพนิ่ง 4"/>
          <p:cNvSpPr/>
          <p:nvPr/>
        </p:nvSpPr>
        <p:spPr>
          <a:xfrm>
            <a:off x="84240" y="6243480"/>
            <a:ext cx="587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971B-8E79-46A1-989F-8891FDF6601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29560" y="834120"/>
            <a:ext cx="83880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สพฐ</a:t>
            </a: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กำหนดหน่วยรับตรวจและส่วนงานย่อย ดังนี้</a:t>
            </a:r>
            <a:endParaRPr b="1" lang="en-US" sz="4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61760" y="2286000"/>
            <a:ext cx="6629400" cy="35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23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23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836640" y="2286000"/>
            <a:ext cx="8307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531720" indent="-531720">
              <a:spcBef>
                <a:spcPts val="2188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3500" spc="-1" strike="noStrike">
                <a:solidFill>
                  <a:srgbClr val="008000"/>
                </a:solidFill>
                <a:latin typeface="Arial"/>
              </a:rPr>
              <a:t>  </a:t>
            </a:r>
            <a:endParaRPr b="0" lang="en-US" sz="35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209680" y="2590920"/>
          <a:ext cx="5410440" cy="3809880"/>
        </p:xfrm>
        <a:graphic>
          <a:graphicData uri="http://schemas.openxmlformats.org/drawingml/2006/table">
            <a:tbl>
              <a:tblPr/>
              <a:tblGrid>
                <a:gridCol w="2746440"/>
                <a:gridCol w="2664000"/>
              </a:tblGrid>
              <a:tr h="1432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4400" spc="-1" strike="noStrike">
                          <a:solidFill>
                            <a:srgbClr val="ff0066"/>
                          </a:solidFill>
                          <a:latin typeface="Angsana New"/>
                        </a:rPr>
                        <a:t>หน่วยรับตรวจ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4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ส่วนงานย่อย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052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4400" spc="-1" strike="noStrike">
                          <a:solidFill>
                            <a:srgbClr val="ff3300"/>
                          </a:solidFill>
                          <a:latin typeface="Angsana New"/>
                        </a:rPr>
                        <a:t>1. </a:t>
                      </a:r>
                      <a:r>
                        <a:rPr b="1" lang="th-TH" sz="4400" spc="-1" strike="noStrike">
                          <a:solidFill>
                            <a:srgbClr val="ff3300"/>
                          </a:solidFill>
                          <a:latin typeface="Angsana New"/>
                        </a:rPr>
                        <a:t>สพฐ</a:t>
                      </a:r>
                      <a:r>
                        <a:rPr b="1" lang="th-TH" sz="4400" spc="-1" strike="noStrike">
                          <a:solidFill>
                            <a:srgbClr val="ff3300"/>
                          </a:solidFill>
                          <a:latin typeface="Angsana New"/>
                        </a:rPr>
                        <a:t>.</a:t>
                      </a:r>
                      <a:r>
                        <a:rPr b="1" lang="th-TH" sz="4400" spc="-1" strike="noStrike">
                          <a:solidFill>
                            <a:srgbClr val="003366"/>
                          </a:solidFill>
                          <a:latin typeface="Angsana New"/>
                        </a:rPr>
                        <a:t> 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4400" spc="-1" strike="noStrike">
                          <a:solidFill>
                            <a:srgbClr val="339933"/>
                          </a:solidFill>
                          <a:latin typeface="Angsana New"/>
                        </a:rPr>
                        <a:t>2. </a:t>
                      </a:r>
                      <a:r>
                        <a:rPr b="1" lang="th-TH" sz="4400" spc="-1" strike="noStrike">
                          <a:solidFill>
                            <a:srgbClr val="339933"/>
                          </a:solidFill>
                          <a:latin typeface="Angsana New"/>
                        </a:rPr>
                        <a:t>สพป</a:t>
                      </a:r>
                      <a:r>
                        <a:rPr b="1" lang="th-TH" sz="4400" spc="-1" strike="noStrike">
                          <a:solidFill>
                            <a:srgbClr val="339933"/>
                          </a:solidFill>
                          <a:latin typeface="Angsana New"/>
                        </a:rPr>
                        <a:t>.</a:t>
                      </a:r>
                      <a:r>
                        <a:rPr b="1" lang="th-TH" sz="4400" spc="-1" strike="noStrike">
                          <a:solidFill>
                            <a:srgbClr val="003366"/>
                          </a:solidFill>
                          <a:latin typeface="Angsana New"/>
                        </a:rPr>
                        <a:t> 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4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3. </a:t>
                      </a:r>
                      <a:r>
                        <a:rPr b="1" lang="th-TH" sz="4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โรงเรียน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4400" spc="-1" strike="noStrike">
                          <a:solidFill>
                            <a:srgbClr val="ff3300"/>
                          </a:solidFill>
                          <a:latin typeface="Angsana New"/>
                        </a:rPr>
                        <a:t>สำนัก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4400" spc="-1" strike="noStrike">
                          <a:solidFill>
                            <a:srgbClr val="339933"/>
                          </a:solidFill>
                          <a:latin typeface="Angsana New"/>
                        </a:rPr>
                        <a:t>กลุ่ม</a:t>
                      </a:r>
                      <a:r>
                        <a:rPr b="1" lang="en-US" sz="4400" spc="-1" strike="noStrike">
                          <a:solidFill>
                            <a:srgbClr val="339933"/>
                          </a:solidFill>
                          <a:latin typeface="Angsana New"/>
                        </a:rPr>
                        <a:t>/</a:t>
                      </a:r>
                      <a:r>
                        <a:rPr b="1" lang="th-TH" sz="4400" spc="-1" strike="noStrike">
                          <a:solidFill>
                            <a:srgbClr val="339933"/>
                          </a:solidFill>
                          <a:latin typeface="Angsana New"/>
                        </a:rPr>
                        <a:t>หน่วย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4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งาน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Text Box 16"/>
          <p:cNvSpPr/>
          <p:nvPr/>
        </p:nvSpPr>
        <p:spPr>
          <a:xfrm>
            <a:off x="2211480" y="2516040"/>
            <a:ext cx="53337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ตัวยึดหมายเลขภาพนิ่ง 7"/>
          <p:cNvSpPr/>
          <p:nvPr/>
        </p:nvSpPr>
        <p:spPr>
          <a:xfrm>
            <a:off x="84240" y="6243480"/>
            <a:ext cx="587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C646-222F-42EB-8440-E42AFD19FE9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838080" y="1295280"/>
          <a:ext cx="8305920" cy="53150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3124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3366"/>
                          </a:solidFill>
                          <a:latin typeface="Angsana New"/>
                          <a:cs typeface="Times New Roman"/>
                        </a:rPr>
                        <a:t>ประเภทความเสี่ยง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3366"/>
                          </a:solidFill>
                          <a:latin typeface="Angsana New"/>
                          <a:cs typeface="Times New Roman"/>
                        </a:rPr>
                        <a:t>ลักษณะเกี่ยวกับ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bf5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3366"/>
                          </a:solidFill>
                          <a:latin typeface="Angsana New"/>
                          <a:cs typeface="Times New Roman"/>
                        </a:rPr>
                        <a:t>สาเหตุที่อาจเกิดขึ้น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9f9"/>
                    </a:solidFill>
                  </a:tcPr>
                </a:tc>
              </a:tr>
              <a:tr h="23158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ความเสี่ยงด้านการเงิน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งบประมาณ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เบิกจ่ายงบประมาณไม่ทันตามกำหนดเวลา 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งบประมาณไม่เพียงพอต่อการดำเนินงาน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8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หนี้สิน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องค์กรขาดสภาพคล่องในการชำระหนี้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เกิดหนี้สูญจากลูกหนี้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8f1e8"/>
                    </a:solidFill>
                  </a:tcPr>
                </a:tc>
              </a:tr>
              <a:tr h="18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ตลาดสินค้าและการเงิน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bf5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การเปลี่ยนแปลงของราคาวัตถุดิบ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อัตราแลกเปลี่ยน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ดอกเบี้ย ฯลฯ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aad4ff"/>
                    </a:solidFill>
                  </a:tcPr>
                </a:tc>
              </a:tr>
            </a:tbl>
          </a:graphicData>
        </a:graphic>
      </p:graphicFrame>
      <p:sp>
        <p:nvSpPr>
          <p:cNvPr id="178" name=""/>
          <p:cNvSpPr txBox="1"/>
          <p:nvPr/>
        </p:nvSpPr>
        <p:spPr>
          <a:xfrm>
            <a:off x="672120" y="291240"/>
            <a:ext cx="7801200" cy="8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3500" spc="-1" strike="noStrike">
                <a:solidFill>
                  <a:srgbClr val="006666"/>
                </a:solidFill>
                <a:latin typeface="Arial"/>
              </a:rPr>
              <a:t>ตัวอย่างการระบุปัจจัยเสี่ยง</a:t>
            </a: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ตัวยึดหมายเลขภาพนิ่ง 4"/>
          <p:cNvSpPr/>
          <p:nvPr/>
        </p:nvSpPr>
        <p:spPr>
          <a:xfrm>
            <a:off x="84240" y="6243480"/>
            <a:ext cx="587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6BA8-1355-47FF-9C7D-E668C79754A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838080" y="1208160"/>
          <a:ext cx="8305920" cy="564984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3366"/>
                          </a:solidFill>
                          <a:latin typeface="Angsana New"/>
                          <a:cs typeface="Times New Roman"/>
                        </a:rPr>
                        <a:t>ประเภทความเสี่ยง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bf5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3366"/>
                          </a:solidFill>
                          <a:latin typeface="Angsana New"/>
                          <a:cs typeface="Times New Roman"/>
                        </a:rPr>
                        <a:t>ลักษณะเกี่ยวกับ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aad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3366"/>
                          </a:solidFill>
                          <a:latin typeface="Angsana New"/>
                          <a:cs typeface="Times New Roman"/>
                        </a:rPr>
                        <a:t>สาเหตุที่อาจเกิดขึ้น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e8"/>
                    </a:solidFill>
                  </a:tcPr>
                </a:tc>
              </a:tr>
              <a:tr h="2742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ความเสี่ยงด้านการปฏิบัติตามกฎระเบียบ 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aad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การละเมิดสัญญา 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ดำเนินงานไม่เสร็จตามกำหนดในสัญญา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กระบวนการดำเนินงานไม่เป็นไปตามข้อตกลง 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f9f9"/>
                    </a:solidFill>
                  </a:tcPr>
                </a:tc>
              </a:tr>
              <a:tr h="402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การเปลี่ยนแปลงกฎระเบียบ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ผู้เสียผลประโยชน์หรือบุคลากรในองค์กรต่อต้านกฎระเบียบใหม่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องค์กรได้รับความเสียหายในทางใดทางหนึ่งจากการเปลี่ยนแปลงกฏหมาย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c5c8a"/>
                    </a:solidFill>
                  </a:tcPr>
                </a:tc>
              </a:tr>
            </a:tbl>
          </a:graphicData>
        </a:graphic>
      </p:graphicFrame>
      <p:sp>
        <p:nvSpPr>
          <p:cNvPr id="181" name=""/>
          <p:cNvSpPr txBox="1"/>
          <p:nvPr/>
        </p:nvSpPr>
        <p:spPr>
          <a:xfrm>
            <a:off x="681840" y="300600"/>
            <a:ext cx="77817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3500" spc="-1" strike="noStrike">
                <a:solidFill>
                  <a:srgbClr val="006666"/>
                </a:solidFill>
                <a:latin typeface="Arial"/>
              </a:rPr>
              <a:t>ตัวอย่างการระบุปัจจัยเสี่ยง</a:t>
            </a: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ตัวยึดหมายเลขภาพนิ่ง 4"/>
          <p:cNvSpPr/>
          <p:nvPr/>
        </p:nvSpPr>
        <p:spPr>
          <a:xfrm>
            <a:off x="84240" y="6243480"/>
            <a:ext cx="587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499E-3982-4FD9-B4C6-C6380891639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34120" y="834120"/>
            <a:ext cx="7781400" cy="998280"/>
          </a:xfrm>
          <a:prstGeom prst="rect">
            <a:avLst/>
          </a:prstGeom>
          <a:solidFill>
            <a:srgbClr val="d6f5f5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3500" spc="-1" strike="noStrike">
                <a:solidFill>
                  <a:srgbClr val="006666"/>
                </a:solidFill>
                <a:latin typeface="Arial"/>
              </a:rPr>
              <a:t>ขั้นตอนการประเมินความเสี่ยง</a:t>
            </a: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836280" y="2361960"/>
            <a:ext cx="7692840" cy="3725640"/>
          </a:xfrm>
          <a:prstGeom prst="rect">
            <a:avLst/>
          </a:prstGeom>
          <a:solidFill>
            <a:srgbClr val="adebeb"/>
          </a:solidFill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4400" spc="-1" strike="noStrike" u="sng">
                <a:solidFill>
                  <a:srgbClr val="ff0000"/>
                </a:solidFill>
                <a:uFillTx/>
                <a:latin typeface="Arial"/>
              </a:rPr>
              <a:t>ขั้นตอนที่ 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6 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ให้วิเคราะห์ว่างานที่ปฏิบัติอยู่จริงในขณะประเมินนั้นปฏิบัติอย่างไร</a:t>
            </a:r>
            <a:br>
              <a:rPr sz="4400"/>
            </a:b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มีการปฏิบัติตามระเบียบ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ข้อบังคับ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หรือคำสั่ง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spcBef>
                <a:spcPts val="11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หรือมีวิธีการอย่างไร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ตัวยึดหมายเลขภาพนิ่ง 5"/>
          <p:cNvSpPr/>
          <p:nvPr/>
        </p:nvSpPr>
        <p:spPr>
          <a:xfrm>
            <a:off x="84240" y="6243480"/>
            <a:ext cx="587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6FBD-277A-45C0-9E91-E250351D5B6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844200" y="844200"/>
            <a:ext cx="8065440" cy="1131120"/>
          </a:xfrm>
          <a:prstGeom prst="rect">
            <a:avLst/>
          </a:prstGeom>
          <a:solidFill>
            <a:srgbClr val="e8f1e8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ขั้นตอนการประเมินความเสี่ยง</a:t>
            </a: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836280" y="2361960"/>
            <a:ext cx="7692840" cy="372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4400" spc="-1" strike="noStrike" u="sng">
                <a:solidFill>
                  <a:srgbClr val="ff0000"/>
                </a:solidFill>
                <a:uFillTx/>
                <a:latin typeface="Arial"/>
              </a:rPr>
              <a:t>ขั้นตอนที่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7 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วิเคราะห์ว่าที่ปฏิบัติจริงอยู่นั้นสามารถลดหรือควบคุมสาเหตุของความเสี่ยงได้หรือไม่</a:t>
            </a:r>
            <a:br>
              <a:rPr sz="4400"/>
            </a:br>
            <a:r>
              <a:rPr b="1" lang="th-TH" sz="4400" spc="-1" strike="noStrike">
                <a:solidFill>
                  <a:srgbClr val="ff0000"/>
                </a:solidFill>
                <a:latin typeface="Arial"/>
              </a:rPr>
              <a:t>สรุปว่า</a:t>
            </a:r>
            <a:r>
              <a:rPr b="1" lang="th-TH" sz="4400" spc="-1" strike="noStrike">
                <a:solidFill>
                  <a:srgbClr val="269999"/>
                </a:solidFill>
                <a:latin typeface="Arial"/>
              </a:rPr>
              <a:t>  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ได้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เพียงพอ</a:t>
            </a:r>
            <a:br>
              <a:rPr sz="4400"/>
            </a:b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             ไม่ได้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ไม่เพียงพอ</a:t>
            </a:r>
            <a:br>
              <a:rPr sz="4400"/>
            </a:br>
            <a:r>
              <a:rPr b="1" lang="th-TH" sz="4400" spc="-1" strike="noStrike">
                <a:solidFill>
                  <a:srgbClr val="2699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ตัวยึดหมายเลขภาพนิ่ง 5"/>
          <p:cNvSpPr/>
          <p:nvPr/>
        </p:nvSpPr>
        <p:spPr>
          <a:xfrm>
            <a:off x="84240" y="6243480"/>
            <a:ext cx="587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A0C8-2DB5-4A3C-8D30-D51A377864F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834120" y="834120"/>
            <a:ext cx="7781400" cy="998280"/>
          </a:xfrm>
          <a:prstGeom prst="rect">
            <a:avLst/>
          </a:prstGeom>
          <a:solidFill>
            <a:srgbClr val="eff9f9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ขั้นตอนการประเมินความเสี่ยง</a:t>
            </a: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2362320"/>
            <a:ext cx="8229600" cy="2643120"/>
          </a:xfrm>
          <a:prstGeom prst="rect">
            <a:avLst/>
          </a:prstGeom>
          <a:solidFill>
            <a:srgbClr val="aad4ff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4400" spc="-1" strike="noStrike" u="sng">
                <a:solidFill>
                  <a:srgbClr val="c00000"/>
                </a:solidFill>
                <a:uFillTx/>
                <a:latin typeface="Arial"/>
              </a:rPr>
              <a:t>ขั้นตอนที่ </a:t>
            </a:r>
            <a:r>
              <a:rPr b="1" lang="en-US" sz="4400" spc="-1" strike="noStrike" u="sng">
                <a:solidFill>
                  <a:srgbClr val="c00000"/>
                </a:solidFill>
                <a:uFillTx/>
                <a:latin typeface="Arial"/>
              </a:rPr>
              <a:t>8 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ถ้าพบว่ายังมีปัญหาอยู่ เกิดจากสาเหตุอะไร จะแก้ไขอย่างไร  ใครคือคนแก้ไ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11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4400" spc="-1" strike="noStrike">
                <a:solidFill>
                  <a:srgbClr val="2699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ตัวยึดหมายเลขภาพนิ่ง 5"/>
          <p:cNvSpPr/>
          <p:nvPr/>
        </p:nvSpPr>
        <p:spPr>
          <a:xfrm>
            <a:off x="84240" y="6243480"/>
            <a:ext cx="587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2F58-EF5A-47BE-9ABD-F8A5CD34CBD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951120" y="52920"/>
            <a:ext cx="7167960" cy="730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2000" spc="-1" strike="noStrike">
                <a:solidFill>
                  <a:srgbClr val="ffff00"/>
                </a:solidFill>
                <a:latin typeface="Tahoma"/>
                <a:cs typeface="Tahoma"/>
              </a:rPr>
              <a:t>การประเมินการควบคุมด้วยตนเอง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Control self Assessment </a:t>
            </a:r>
            <a:r>
              <a:rPr b="1" lang="th-TH" sz="2000" spc="-1" strike="noStrike">
                <a:solidFill>
                  <a:srgbClr val="ffff00"/>
                </a:solidFill>
                <a:latin typeface="Tahoma"/>
                <a:ea typeface="Tahoma"/>
              </a:rPr>
              <a:t>(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CSA</a:t>
            </a:r>
            <a:r>
              <a:rPr b="1" lang="th-TH" sz="2000" spc="-1" strike="noStrike">
                <a:solidFill>
                  <a:srgbClr val="ffff00"/>
                </a:solidFill>
                <a:latin typeface="Tahoma"/>
                <a:ea typeface="Tahoma"/>
              </a:rPr>
              <a:t>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Oval 4"/>
          <p:cNvSpPr/>
          <p:nvPr/>
        </p:nvSpPr>
        <p:spPr>
          <a:xfrm>
            <a:off x="3348000" y="1433520"/>
            <a:ext cx="2087640" cy="91584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CS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ประเมินการควบคุม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ด้วยตนเอง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Oval 5"/>
          <p:cNvSpPr/>
          <p:nvPr/>
        </p:nvSpPr>
        <p:spPr>
          <a:xfrm>
            <a:off x="4859280" y="2492280"/>
            <a:ext cx="1871640" cy="7923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วัตถุประสงค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ของงา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Oval 6"/>
          <p:cNvSpPr/>
          <p:nvPr/>
        </p:nvSpPr>
        <p:spPr>
          <a:xfrm>
            <a:off x="5003640" y="3789360"/>
            <a:ext cx="1872000" cy="792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กระบวนการ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ปฏิบัติงา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Oval 7"/>
          <p:cNvSpPr/>
          <p:nvPr/>
        </p:nvSpPr>
        <p:spPr>
          <a:xfrm>
            <a:off x="3348000" y="4437000"/>
            <a:ext cx="1871640" cy="79236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กิจกรรมควบคุมที่ม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Oval 8"/>
          <p:cNvSpPr/>
          <p:nvPr/>
        </p:nvSpPr>
        <p:spPr>
          <a:xfrm>
            <a:off x="1476360" y="3716280"/>
            <a:ext cx="2016000" cy="841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ปัจจัยเสี่ยงที่ยังมีอยู่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Oval 9"/>
          <p:cNvSpPr/>
          <p:nvPr/>
        </p:nvSpPr>
        <p:spPr>
          <a:xfrm>
            <a:off x="1547640" y="2421000"/>
            <a:ext cx="1944720" cy="792000"/>
          </a:xfrm>
          <a:prstGeom prst="ellipse">
            <a:avLst/>
          </a:prstGeom>
          <a:solidFill>
            <a:srgbClr val="00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แผนปรับปรุง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การควบคุม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Line 13"/>
          <p:cNvSpPr/>
          <p:nvPr/>
        </p:nvSpPr>
        <p:spPr>
          <a:xfrm flipH="1" flipV="1">
            <a:off x="2700000" y="4653000"/>
            <a:ext cx="577800" cy="216000"/>
          </a:xfrm>
          <a:prstGeom prst="line">
            <a:avLst/>
          </a:prstGeom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Line 14"/>
          <p:cNvSpPr/>
          <p:nvPr/>
        </p:nvSpPr>
        <p:spPr>
          <a:xfrm flipV="1">
            <a:off x="2484360" y="3213000"/>
            <a:ext cx="0" cy="432000"/>
          </a:xfrm>
          <a:prstGeom prst="line">
            <a:avLst/>
          </a:prstGeom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Line 15"/>
          <p:cNvSpPr/>
          <p:nvPr/>
        </p:nvSpPr>
        <p:spPr>
          <a:xfrm flipV="1">
            <a:off x="2914560" y="2133360"/>
            <a:ext cx="433440" cy="214200"/>
          </a:xfrm>
          <a:prstGeom prst="line">
            <a:avLst/>
          </a:prstGeom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Line 16"/>
          <p:cNvSpPr/>
          <p:nvPr/>
        </p:nvSpPr>
        <p:spPr>
          <a:xfrm>
            <a:off x="5435640" y="2131920"/>
            <a:ext cx="503280" cy="289080"/>
          </a:xfrm>
          <a:prstGeom prst="line">
            <a:avLst/>
          </a:prstGeom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Line 17"/>
          <p:cNvSpPr/>
          <p:nvPr/>
        </p:nvSpPr>
        <p:spPr>
          <a:xfrm>
            <a:off x="5940360" y="3355920"/>
            <a:ext cx="0" cy="360360"/>
          </a:xfrm>
          <a:prstGeom prst="line">
            <a:avLst/>
          </a:prstGeom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Line 18"/>
          <p:cNvSpPr/>
          <p:nvPr/>
        </p:nvSpPr>
        <p:spPr>
          <a:xfrm flipH="1">
            <a:off x="5364000" y="4653000"/>
            <a:ext cx="433440" cy="216000"/>
          </a:xfrm>
          <a:prstGeom prst="line">
            <a:avLst/>
          </a:prstGeom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Text Box 19"/>
          <p:cNvSpPr/>
          <p:nvPr/>
        </p:nvSpPr>
        <p:spPr>
          <a:xfrm>
            <a:off x="6400800" y="1752480"/>
            <a:ext cx="2597040" cy="307080"/>
          </a:xfrm>
          <a:prstGeom prst="rect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3366"/>
                </a:solidFill>
                <a:latin typeface="Wingdings"/>
                <a:ea typeface="Wingdings"/>
              </a:rPr>
              <a:t>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cs typeface="Tahoma"/>
              </a:rPr>
              <a:t>ต้องการให้เกิดผลสำเร็จอะไร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Text Box 20"/>
          <p:cNvSpPr/>
          <p:nvPr/>
        </p:nvSpPr>
        <p:spPr>
          <a:xfrm>
            <a:off x="5973120" y="1305000"/>
            <a:ext cx="2014200" cy="368280"/>
          </a:xfrm>
          <a:prstGeom prst="rect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3366"/>
                </a:solidFill>
                <a:latin typeface="Tahoma"/>
                <a:cs typeface="Tahoma"/>
              </a:rPr>
              <a:t>งานที่มีความเสี่ยงสูง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7358040" y="3573360"/>
            <a:ext cx="1535040" cy="520200"/>
          </a:xfrm>
          <a:prstGeom prst="rect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3366"/>
                </a:solidFill>
                <a:latin typeface="Wingdings"/>
                <a:ea typeface="Wingdings"/>
              </a:rPr>
              <a:t>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cs typeface="Tahoma"/>
              </a:rPr>
              <a:t>ขั้นตอนงาน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3366"/>
                </a:solidFill>
                <a:latin typeface="Tahoma"/>
                <a:ea typeface="Tahoma"/>
              </a:rPr>
              <a:t>    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cs typeface="Tahoma"/>
              </a:rPr>
              <a:t>มีอะไรบ้าง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Text Box 22"/>
          <p:cNvSpPr/>
          <p:nvPr/>
        </p:nvSpPr>
        <p:spPr>
          <a:xfrm>
            <a:off x="7308720" y="4292640"/>
            <a:ext cx="1605240" cy="520200"/>
          </a:xfrm>
          <a:prstGeom prst="rect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3366"/>
                </a:solidFill>
                <a:latin typeface="Wingdings"/>
                <a:ea typeface="Wingdings"/>
              </a:rPr>
              <a:t>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ea typeface="Tahoma"/>
              </a:rPr>
              <a:t>  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cs typeface="Tahoma"/>
              </a:rPr>
              <a:t>มีวัตถุประสงค์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3366"/>
                </a:solidFill>
                <a:latin typeface="Tahoma"/>
                <a:ea typeface="Tahoma"/>
              </a:rPr>
              <a:t>   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ea typeface="Tahoma"/>
              </a:rPr>
              <a:t>(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cs typeface="Tahoma"/>
              </a:rPr>
              <a:t>ย่อย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ea typeface="Tahoma"/>
              </a:rPr>
              <a:t>)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cs typeface="Tahoma"/>
              </a:rPr>
              <a:t>อะไรบ้าง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Text Box 24"/>
          <p:cNvSpPr/>
          <p:nvPr/>
        </p:nvSpPr>
        <p:spPr>
          <a:xfrm>
            <a:off x="7093080" y="2492280"/>
            <a:ext cx="1865160" cy="733320"/>
          </a:xfrm>
          <a:prstGeom prst="rect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3366"/>
                </a:solidFill>
                <a:latin typeface="Wingdings"/>
                <a:ea typeface="Wingdings"/>
              </a:rPr>
              <a:t>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cs typeface="Tahoma"/>
              </a:rPr>
              <a:t>เข้าใจความเสี่ยง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3366"/>
                </a:solidFill>
                <a:latin typeface="Tahoma"/>
                <a:ea typeface="Tahoma"/>
              </a:rPr>
              <a:t>    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cs typeface="Tahoma"/>
              </a:rPr>
              <a:t>ที่อาจกระทบต่อ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3366"/>
                </a:solidFill>
                <a:latin typeface="Tahoma"/>
                <a:ea typeface="Tahoma"/>
              </a:rPr>
              <a:t>   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cs typeface="Tahoma"/>
              </a:rPr>
              <a:t>วัตถุประสงค์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ea typeface="Tahoma"/>
              </a:rPr>
              <a:t>(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cs typeface="Tahoma"/>
              </a:rPr>
              <a:t>หลัก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ea typeface="Tahoma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Text Box 25"/>
          <p:cNvSpPr/>
          <p:nvPr/>
        </p:nvSpPr>
        <p:spPr>
          <a:xfrm>
            <a:off x="2771640" y="5694480"/>
            <a:ext cx="6310440" cy="733320"/>
          </a:xfrm>
          <a:prstGeom prst="rect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3366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003366"/>
                </a:solidFill>
                <a:latin typeface="Wingdings"/>
                <a:ea typeface="Wingdings"/>
              </a:rPr>
              <a:t>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ea typeface="Tahoma"/>
              </a:rPr>
              <a:t>  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cs typeface="Tahoma"/>
              </a:rPr>
              <a:t>มี หรือไม่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ea typeface="Tahoma"/>
              </a:rPr>
              <a:t>/ 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cs typeface="Tahoma"/>
              </a:rPr>
              <a:t>ถ้ามี อะไรบ้าง เช่น คู่มือการปฏิบัติงาน การรายงาน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3366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003366"/>
                </a:solidFill>
                <a:latin typeface="Wingdings"/>
                <a:ea typeface="Wingdings"/>
              </a:rPr>
              <a:t>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cs typeface="Tahoma"/>
              </a:rPr>
              <a:t>ถ้ามีประสิทธิภาพงานบรรลุวัตถุประสงค์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ea typeface="Tahoma"/>
              </a:rPr>
              <a:t>/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cs typeface="Tahoma"/>
              </a:rPr>
              <a:t>เป้าหมาย 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ea typeface="Tahoma"/>
              </a:rPr>
              <a:t>(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cs typeface="Tahoma"/>
              </a:rPr>
              <a:t>ไม่เสี่ยง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ea typeface="Tahoma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3366"/>
                </a:solidFill>
                <a:latin typeface="Tahoma"/>
                <a:ea typeface="Tahoma"/>
              </a:rPr>
              <a:t>  </a:t>
            </a:r>
            <a:r>
              <a:rPr b="0" lang="th-TH" sz="1400" spc="-1" strike="noStrike">
                <a:solidFill>
                  <a:srgbClr val="003366"/>
                </a:solidFill>
                <a:latin typeface="Wingdings"/>
                <a:ea typeface="Wingdings"/>
              </a:rPr>
              <a:t>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cs typeface="Tahoma"/>
              </a:rPr>
              <a:t>งานไม่บรรลุวัตถุประสงค์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ea typeface="Tahoma"/>
              </a:rPr>
              <a:t>/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cs typeface="Tahoma"/>
              </a:rPr>
              <a:t>เป้าหมาย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ea typeface="Tahoma"/>
              </a:rPr>
              <a:t>(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cs typeface="Tahoma"/>
              </a:rPr>
              <a:t>เสี่ยง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ea typeface="Tahoma"/>
              </a:rPr>
              <a:t>) 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cs typeface="Tahoma"/>
              </a:rPr>
              <a:t>การควบคุมไม่มีประสิทธิภาพ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Text Box 27"/>
          <p:cNvSpPr/>
          <p:nvPr/>
        </p:nvSpPr>
        <p:spPr>
          <a:xfrm>
            <a:off x="396720" y="4724280"/>
            <a:ext cx="1943640" cy="946440"/>
          </a:xfrm>
          <a:prstGeom prst="rect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3366"/>
                </a:solidFill>
                <a:latin typeface="Wingdings"/>
                <a:ea typeface="Wingdings"/>
              </a:rPr>
              <a:t>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cs typeface="Tahoma"/>
              </a:rPr>
              <a:t>ถ้างานยังมีความเสี่ยง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3366"/>
                </a:solidFill>
                <a:latin typeface="Tahoma"/>
                <a:cs typeface="Tahoma"/>
              </a:rPr>
              <a:t>วิเคราะห์หาต้นเหตุ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ea typeface="Tahoma"/>
              </a:rPr>
              <a:t>/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cs typeface="Tahoma"/>
              </a:rPr>
              <a:t>สาเหตุ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3366"/>
                </a:solidFill>
                <a:latin typeface="Tahoma"/>
                <a:cs typeface="Tahoma"/>
              </a:rPr>
              <a:t>เกิดจากอะไร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ea typeface="Tahoma"/>
              </a:rPr>
              <a:t>(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cs typeface="Tahoma"/>
              </a:rPr>
              <a:t>ปัจจัยภายใน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3366"/>
                </a:solidFill>
                <a:latin typeface="Tahoma"/>
                <a:cs typeface="Tahoma"/>
              </a:rPr>
              <a:t>หรือภายนอก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ea typeface="Tahoma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Text Box 29"/>
          <p:cNvSpPr/>
          <p:nvPr/>
        </p:nvSpPr>
        <p:spPr>
          <a:xfrm>
            <a:off x="214200" y="1100160"/>
            <a:ext cx="2702160" cy="946440"/>
          </a:xfrm>
          <a:prstGeom prst="rect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3366"/>
                </a:solidFill>
                <a:latin typeface="Wingdings"/>
                <a:ea typeface="Wingdings"/>
              </a:rPr>
              <a:t>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cs typeface="Tahoma"/>
              </a:rPr>
              <a:t>กำหนดกิจกรรมการควบคุมใหม่หรือเพิ่มเติมเพื่อลดความเสี่ยงให้อยู่ในระดับที่ยอมรับได้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3366"/>
                </a:solidFill>
                <a:latin typeface="Tahoma"/>
                <a:ea typeface="Tahoma"/>
              </a:rPr>
              <a:t>(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cs typeface="Tahoma"/>
              </a:rPr>
              <a:t>แก้ที่ต้นเหตุ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ea typeface="Tahoma"/>
              </a:rPr>
              <a:t>/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cs typeface="Tahoma"/>
              </a:rPr>
              <a:t>สาเหตุ 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ea typeface="Tahoma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Text Box 38"/>
          <p:cNvSpPr/>
          <p:nvPr/>
        </p:nvSpPr>
        <p:spPr>
          <a:xfrm>
            <a:off x="1462680" y="2133720"/>
            <a:ext cx="397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700" spc="-1" strike="noStrike">
                <a:solidFill>
                  <a:srgbClr val="800000"/>
                </a:solidFill>
                <a:latin typeface="Wingdings"/>
                <a:ea typeface="Wingdings"/>
              </a:rPr>
              <a:t>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Text Box 39"/>
          <p:cNvSpPr/>
          <p:nvPr/>
        </p:nvSpPr>
        <p:spPr>
          <a:xfrm>
            <a:off x="6588000" y="2262240"/>
            <a:ext cx="381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700" spc="-1" strike="noStrike">
                <a:solidFill>
                  <a:srgbClr val="800000"/>
                </a:solidFill>
                <a:latin typeface="Wingdings"/>
                <a:ea typeface="Wingdings"/>
              </a:rPr>
              <a:t>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Text Box 40"/>
          <p:cNvSpPr/>
          <p:nvPr/>
        </p:nvSpPr>
        <p:spPr>
          <a:xfrm>
            <a:off x="6899760" y="3917880"/>
            <a:ext cx="397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7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Text Box 41"/>
          <p:cNvSpPr/>
          <p:nvPr/>
        </p:nvSpPr>
        <p:spPr>
          <a:xfrm>
            <a:off x="4122720" y="5214960"/>
            <a:ext cx="397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700" spc="-1" strike="noStrike">
                <a:solidFill>
                  <a:srgbClr val="800000"/>
                </a:solidFill>
                <a:latin typeface="Wingdings"/>
                <a:ea typeface="Wingdings"/>
              </a:rPr>
              <a:t>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Text Box 42"/>
          <p:cNvSpPr/>
          <p:nvPr/>
        </p:nvSpPr>
        <p:spPr>
          <a:xfrm>
            <a:off x="1173600" y="4221000"/>
            <a:ext cx="397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700" spc="-1" strike="noStrike">
                <a:solidFill>
                  <a:srgbClr val="800000"/>
                </a:solidFill>
                <a:latin typeface="Wingdings"/>
                <a:ea typeface="Wingdings"/>
              </a:rPr>
              <a:t>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Text Box 43"/>
          <p:cNvSpPr/>
          <p:nvPr/>
        </p:nvSpPr>
        <p:spPr>
          <a:xfrm>
            <a:off x="5483880" y="1469880"/>
            <a:ext cx="397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700" spc="-1" strike="noStrike">
                <a:solidFill>
                  <a:srgbClr val="800000"/>
                </a:solidFill>
                <a:latin typeface="Wingdings"/>
                <a:ea typeface="Wingdings"/>
              </a:rPr>
              <a:t>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Text Box 44"/>
          <p:cNvSpPr/>
          <p:nvPr/>
        </p:nvSpPr>
        <p:spPr>
          <a:xfrm>
            <a:off x="5127480" y="6539040"/>
            <a:ext cx="344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800000"/>
                </a:solidFill>
                <a:latin typeface="Tahoma"/>
                <a:ea typeface="Tahoma"/>
              </a:rPr>
              <a:t>( </a:t>
            </a:r>
            <a:r>
              <a:rPr b="0" lang="th-TH" sz="1200" spc="-1" strike="noStrike">
                <a:solidFill>
                  <a:srgbClr val="800000"/>
                </a:solidFill>
                <a:latin typeface="Tahoma"/>
                <a:cs typeface="Tahoma"/>
              </a:rPr>
              <a:t>ที่มา</a:t>
            </a:r>
            <a:r>
              <a:rPr b="0" lang="en-US" sz="1200" spc="-1" strike="noStrike">
                <a:solidFill>
                  <a:srgbClr val="800000"/>
                </a:solidFill>
                <a:latin typeface="Tahoma"/>
                <a:ea typeface="Tahoma"/>
              </a:rPr>
              <a:t> </a:t>
            </a:r>
            <a:r>
              <a:rPr b="0" lang="en-US" sz="1200" spc="-1" strike="noStrike">
                <a:solidFill>
                  <a:srgbClr val="800000"/>
                </a:solidFill>
                <a:latin typeface="Tahoma"/>
                <a:ea typeface="Tahoma"/>
              </a:rPr>
              <a:t>:</a:t>
            </a:r>
            <a:r>
              <a:rPr b="0" lang="th-TH" sz="1200" spc="-1" strike="noStrike">
                <a:solidFill>
                  <a:srgbClr val="800000"/>
                </a:solidFill>
                <a:latin typeface="Tahoma"/>
                <a:cs typeface="Tahoma"/>
              </a:rPr>
              <a:t>ปรับจากแนวทางวางระบบควบคุมภายในฯ</a:t>
            </a:r>
            <a:r>
              <a:rPr b="0" lang="th-TH" sz="1200" spc="-1" strike="noStrike">
                <a:solidFill>
                  <a:srgbClr val="800000"/>
                </a:solidFill>
                <a:latin typeface="Tahoma"/>
                <a:ea typeface="Tahoma"/>
              </a:rPr>
              <a:t>, </a:t>
            </a:r>
            <a:r>
              <a:rPr b="0" lang="th-TH" sz="1200" spc="-1" strike="noStrike">
                <a:solidFill>
                  <a:srgbClr val="800000"/>
                </a:solidFill>
                <a:latin typeface="Tahoma"/>
                <a:cs typeface="Tahoma"/>
              </a:rPr>
              <a:t>สตง</a:t>
            </a:r>
            <a:r>
              <a:rPr b="0" lang="th-TH" sz="1200" spc="-1" strike="noStrike">
                <a:solidFill>
                  <a:srgbClr val="800000"/>
                </a:solidFill>
                <a:latin typeface="Tahoma"/>
                <a:ea typeface="Tahoma"/>
              </a:rPr>
              <a:t>.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ตัวยึดหมายเลขภาพนิ่ง 30"/>
          <p:cNvSpPr/>
          <p:nvPr/>
        </p:nvSpPr>
        <p:spPr>
          <a:xfrm>
            <a:off x="84240" y="6243480"/>
            <a:ext cx="587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4B6F-FCE4-4CC3-9646-257482FCEFE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10"/>
          <p:cNvSpPr/>
          <p:nvPr/>
        </p:nvSpPr>
        <p:spPr>
          <a:xfrm>
            <a:off x="1042920" y="2373480"/>
            <a:ext cx="7921800" cy="69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4100" spc="-1" strike="noStrike">
                <a:solidFill>
                  <a:srgbClr val="003366"/>
                </a:solidFill>
                <a:latin typeface="Angsana New"/>
              </a:rPr>
              <a:t>4.</a:t>
            </a:r>
            <a:r>
              <a:rPr b="0" lang="th-TH" sz="4100" spc="-1" strike="noStrike">
                <a:solidFill>
                  <a:srgbClr val="003366"/>
                </a:solidFill>
                <a:latin typeface="Angsana New"/>
              </a:rPr>
              <a:t> </a:t>
            </a:r>
            <a:r>
              <a:rPr b="0" lang="th-TH" sz="4100" spc="-1" strike="noStrike">
                <a:solidFill>
                  <a:srgbClr val="000000"/>
                </a:solidFill>
                <a:latin typeface="Angsana New"/>
              </a:rPr>
              <a:t>นำความเสี่ยงที่ยังหลงเหลืออยู่</a:t>
            </a:r>
            <a:r>
              <a:rPr b="0" lang="th-TH" sz="4100" spc="-1" strike="noStrike">
                <a:solidFill>
                  <a:srgbClr val="ff0000"/>
                </a:solidFill>
                <a:latin typeface="Angsana New"/>
              </a:rPr>
              <a:t>จากการติดตาม ปย</a:t>
            </a:r>
            <a:r>
              <a:rPr b="0" lang="th-TH" sz="4100" spc="-1" strike="noStrike">
                <a:solidFill>
                  <a:srgbClr val="ff0000"/>
                </a:solidFill>
                <a:latin typeface="Angsana New"/>
              </a:rPr>
              <a:t>.2</a:t>
            </a:r>
            <a:r>
              <a:rPr b="0" lang="th-TH" sz="4100" spc="-1" strike="noStrike">
                <a:solidFill>
                  <a:srgbClr val="003366"/>
                </a:solidFill>
                <a:latin typeface="Angsana New"/>
              </a:rPr>
              <a:t> + </a:t>
            </a:r>
            <a:r>
              <a:rPr b="0" lang="th-TH" sz="4100" spc="-1" strike="noStrike">
                <a:solidFill>
                  <a:srgbClr val="000000"/>
                </a:solidFill>
                <a:latin typeface="Angsana New"/>
              </a:rPr>
              <a:t>ความเสี่ยงจากการประเมิน </a:t>
            </a:r>
            <a:r>
              <a:rPr b="0" lang="th-TH" sz="4100" spc="-1" strike="noStrike">
                <a:solidFill>
                  <a:srgbClr val="000000"/>
                </a:solidFill>
                <a:latin typeface="Angsana New"/>
              </a:rPr>
              <a:t>5 </a:t>
            </a:r>
            <a:r>
              <a:rPr b="0" lang="th-TH" sz="4100" spc="-1" strike="noStrike">
                <a:solidFill>
                  <a:srgbClr val="000000"/>
                </a:solidFill>
                <a:latin typeface="Angsana New"/>
              </a:rPr>
              <a:t>องค์ประกอบ </a:t>
            </a:r>
            <a:r>
              <a:rPr b="0" lang="th-TH" sz="4100" spc="-1" strike="noStrike">
                <a:solidFill>
                  <a:srgbClr val="ff0000"/>
                </a:solidFill>
                <a:latin typeface="Angsana New"/>
              </a:rPr>
              <a:t>และการประเมิน </a:t>
            </a:r>
            <a:r>
              <a:rPr b="0" lang="en-US" sz="4100" spc="-1" strike="noStrike">
                <a:solidFill>
                  <a:srgbClr val="ff0000"/>
                </a:solidFill>
                <a:latin typeface="Angsana New"/>
              </a:rPr>
              <a:t>CSA</a:t>
            </a:r>
            <a:r>
              <a:rPr b="0" lang="th-TH" sz="4100" spc="-1" strike="noStrike">
                <a:solidFill>
                  <a:srgbClr val="ff0000"/>
                </a:solidFill>
                <a:latin typeface="Angsana New"/>
              </a:rPr>
              <a:t> </a:t>
            </a:r>
            <a:r>
              <a:rPr b="0" lang="th-TH" sz="4100" spc="-1" strike="noStrike">
                <a:solidFill>
                  <a:srgbClr val="000000"/>
                </a:solidFill>
                <a:latin typeface="Angsana New"/>
              </a:rPr>
              <a:t>มาหามาตรการ</a:t>
            </a:r>
            <a:r>
              <a:rPr b="0" lang="th-TH" sz="41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0" lang="th-TH" sz="4100" spc="-1" strike="noStrike">
                <a:solidFill>
                  <a:srgbClr val="000000"/>
                </a:solidFill>
                <a:latin typeface="Angsana New"/>
              </a:rPr>
              <a:t>แนวทางในการควบคุม พร้อมทั้งกำหนด ผู้รับผิดชอบและระยะเวลาดำเนินการ แล้วสรุปลงใน </a:t>
            </a:r>
            <a:r>
              <a:rPr b="0" lang="th-TH" sz="4100" spc="-1" strike="noStrike">
                <a:solidFill>
                  <a:srgbClr val="ff0000"/>
                </a:solidFill>
                <a:latin typeface="Angsana New"/>
              </a:rPr>
              <a:t>แบบ ปย</a:t>
            </a:r>
            <a:r>
              <a:rPr b="0" lang="th-TH" sz="4100" spc="-1" strike="noStrike">
                <a:solidFill>
                  <a:srgbClr val="ff0000"/>
                </a:solidFill>
                <a:latin typeface="Angsana New"/>
              </a:rPr>
              <a:t>.2 </a:t>
            </a:r>
            <a:r>
              <a:rPr b="0" lang="th-TH" sz="4100" spc="-1" strike="noStrike">
                <a:solidFill>
                  <a:srgbClr val="0000ff"/>
                </a:solidFill>
                <a:latin typeface="Angsana New"/>
              </a:rPr>
              <a:t>(</a:t>
            </a:r>
            <a:r>
              <a:rPr b="0" lang="th-TH" sz="4100" spc="-1" strike="noStrike">
                <a:solidFill>
                  <a:srgbClr val="0000ff"/>
                </a:solidFill>
                <a:latin typeface="Angsana New"/>
              </a:rPr>
              <a:t>อยู่ในหนังสือ หน้า </a:t>
            </a:r>
            <a:r>
              <a:rPr b="0" lang="th-TH" sz="4100" spc="-1" strike="noStrike">
                <a:solidFill>
                  <a:srgbClr val="0000ff"/>
                </a:solidFill>
                <a:latin typeface="Angsana New"/>
              </a:rPr>
              <a:t>60)</a:t>
            </a:r>
            <a:endParaRPr b="0" lang="en-US" sz="41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1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ตัวยึดหมายเลขภาพนิ่ง 3"/>
          <p:cNvSpPr/>
          <p:nvPr/>
        </p:nvSpPr>
        <p:spPr>
          <a:xfrm>
            <a:off x="84240" y="6243480"/>
            <a:ext cx="587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C53C-89A1-4DAE-8814-AA340EFBB3E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8480" y="380880"/>
            <a:ext cx="7921440" cy="129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2900" spc="-1" strike="noStrike">
                <a:solidFill>
                  <a:srgbClr val="000000"/>
                </a:solidFill>
                <a:latin typeface="Arial"/>
              </a:rPr>
              <a:t>กลุ่ม</a:t>
            </a:r>
            <a:r>
              <a:rPr b="0" lang="th-TH" sz="29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th-TH" sz="2900" spc="-1" strike="noStrike">
                <a:solidFill>
                  <a:srgbClr val="000000"/>
                </a:solidFill>
                <a:latin typeface="Arial"/>
              </a:rPr>
              <a:t>งาน</a:t>
            </a:r>
            <a:r>
              <a:rPr b="0" lang="th-TH" sz="2900" spc="-1" strike="noStrike">
                <a:solidFill>
                  <a:srgbClr val="000000"/>
                </a:solidFill>
                <a:latin typeface="Arial"/>
              </a:rPr>
              <a:t>.............................</a:t>
            </a:r>
            <a:br>
              <a:rPr sz="2900"/>
            </a:br>
            <a:r>
              <a:rPr b="0" lang="th-TH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2900" spc="-1" strike="noStrike">
                <a:solidFill>
                  <a:srgbClr val="000000"/>
                </a:solidFill>
                <a:latin typeface="Arial"/>
              </a:rPr>
              <a:t>รายงานการประเมินผลและการปรับปรุงการควบคุมภายใน</a:t>
            </a:r>
            <a:br>
              <a:rPr sz="2900"/>
            </a:br>
            <a:r>
              <a:rPr b="0" lang="th-TH" sz="2900" spc="-1" strike="noStrike">
                <a:solidFill>
                  <a:srgbClr val="000000"/>
                </a:solidFill>
                <a:latin typeface="Arial"/>
              </a:rPr>
              <a:t>สำหรับปีสิ้นสุดวันที่ </a:t>
            </a:r>
            <a:r>
              <a:rPr b="0" lang="th-TH" sz="29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0" lang="th-TH" sz="2900" spc="-1" strike="noStrike">
                <a:solidFill>
                  <a:srgbClr val="000000"/>
                </a:solidFill>
                <a:latin typeface="Arial"/>
              </a:rPr>
              <a:t>กันยายน  </a:t>
            </a:r>
            <a:r>
              <a:rPr b="0" lang="th-TH" sz="2900" spc="-1" strike="noStrike">
                <a:solidFill>
                  <a:srgbClr val="000000"/>
                </a:solidFill>
                <a:latin typeface="Arial"/>
              </a:rPr>
              <a:t>2555</a:t>
            </a:r>
            <a:endParaRPr b="1" lang="en-US" sz="29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762120" y="2463840"/>
          <a:ext cx="8153280" cy="3495600"/>
        </p:xfrm>
        <a:graphic>
          <a:graphicData uri="http://schemas.openxmlformats.org/drawingml/2006/table">
            <a:tbl>
              <a:tblPr/>
              <a:tblGrid>
                <a:gridCol w="1752480"/>
                <a:gridCol w="1219320"/>
                <a:gridCol w="1143000"/>
                <a:gridCol w="990360"/>
                <a:gridCol w="1067040"/>
                <a:gridCol w="1066680"/>
                <a:gridCol w="914400"/>
              </a:tblGrid>
              <a:tr h="26946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กระบวนการปฏิบัติงาน</a:t>
                      </a: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โครงการ</a:t>
                      </a: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กิจกรรม</a:t>
                      </a: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ด้านของงานที่ประเมิน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และวัตถุประสงค์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ของการควบคุม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การควบคุม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ที่มีอยู่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)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การ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ประเมินผล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การควบคุม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)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ความเสี่ยง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ที่ยังมียู่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)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การ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ปรับปรุง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การ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ควบคุม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)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กำหนด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เสร็จ</a:t>
                      </a: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ผู้รับ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ผิดชอบ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)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หมายเหตุ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)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3928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Text Box 71"/>
          <p:cNvSpPr/>
          <p:nvPr/>
        </p:nvSpPr>
        <p:spPr>
          <a:xfrm>
            <a:off x="7773840" y="1905120"/>
            <a:ext cx="1216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2300" spc="-1" strike="noStrike">
                <a:solidFill>
                  <a:srgbClr val="ff0000"/>
                </a:solidFill>
                <a:latin typeface="Arial"/>
              </a:rPr>
              <a:t>แบบ ปย</a:t>
            </a:r>
            <a:r>
              <a:rPr b="1" lang="th-TH" sz="2300" spc="-1" strike="noStrike">
                <a:solidFill>
                  <a:srgbClr val="ff0000"/>
                </a:solidFill>
                <a:latin typeface="Arial"/>
              </a:rPr>
              <a:t>. 2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Text Box 74"/>
          <p:cNvSpPr/>
          <p:nvPr/>
        </p:nvSpPr>
        <p:spPr>
          <a:xfrm>
            <a:off x="6783480" y="5945040"/>
            <a:ext cx="19796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ชื่อผู้รายงาน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...........................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ตำแหน่ง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................................ 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วันที่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.....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เดือน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.........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พ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ศ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.........        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ตัวยึดหมายเลขภาพนิ่ง 6"/>
          <p:cNvSpPr/>
          <p:nvPr/>
        </p:nvSpPr>
        <p:spPr>
          <a:xfrm>
            <a:off x="84240" y="6243480"/>
            <a:ext cx="587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C7AB-FF75-467E-A341-10CDA02E934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2215440" y="691200"/>
            <a:ext cx="5474520" cy="1131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666699">
                <a:alpha val="50000"/>
              </a:srgbClr>
            </a:outerShdw>
          </a:effectLst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th-TH" sz="3600" spc="-1" strike="noStrike">
                <a:solidFill>
                  <a:srgbClr val="ffffff"/>
                </a:solidFill>
                <a:latin typeface="Cordia New"/>
                <a:cs typeface="Cordia New"/>
              </a:rPr>
              <a:t>สรุปขั้นตอนการจัดทำรายงาน </a:t>
            </a:r>
            <a:br>
              <a:rPr sz="3600"/>
            </a:br>
            <a:r>
              <a:rPr b="1" lang="th-TH" sz="3600" spc="-1" strike="noStrike">
                <a:solidFill>
                  <a:srgbClr val="ffffff"/>
                </a:solidFill>
                <a:latin typeface="Cordia New"/>
                <a:cs typeface="Cordia New"/>
              </a:rPr>
              <a:t>ก</a:t>
            </a:r>
            <a:r>
              <a:rPr b="1" lang="th-TH" sz="3600" spc="-1" strike="noStrike">
                <a:solidFill>
                  <a:srgbClr val="ffffff"/>
                </a:solidFill>
                <a:latin typeface="Cordia New"/>
                <a:ea typeface="Cordia New"/>
              </a:rPr>
              <a:t>. </a:t>
            </a:r>
            <a:r>
              <a:rPr b="1" lang="th-TH" sz="3600" spc="-1" strike="noStrike">
                <a:solidFill>
                  <a:srgbClr val="ffffff"/>
                </a:solidFill>
                <a:latin typeface="Cordia New"/>
                <a:cs typeface="Cordia New"/>
              </a:rPr>
              <a:t>ส่วนงานย่อย </a:t>
            </a:r>
            <a:r>
              <a:rPr b="1" lang="th-TH" sz="3600" spc="-1" strike="noStrike">
                <a:solidFill>
                  <a:srgbClr val="ffffff"/>
                </a:solidFill>
                <a:latin typeface="Cordia New"/>
                <a:ea typeface="Cordia New"/>
              </a:rPr>
              <a:t>(</a:t>
            </a:r>
            <a:r>
              <a:rPr b="1" lang="th-TH" sz="3600" spc="-1" strike="noStrike">
                <a:solidFill>
                  <a:srgbClr val="ffffff"/>
                </a:solidFill>
                <a:latin typeface="Cordia New"/>
                <a:cs typeface="Cordia New"/>
              </a:rPr>
              <a:t>กลุ่ม </a:t>
            </a:r>
            <a:r>
              <a:rPr b="1" lang="th-TH" sz="3600" spc="-1" strike="noStrike">
                <a:solidFill>
                  <a:srgbClr val="ffffff"/>
                </a:solidFill>
                <a:latin typeface="Cordia New"/>
                <a:ea typeface="Cordia New"/>
              </a:rPr>
              <a:t>/ </a:t>
            </a:r>
            <a:r>
              <a:rPr b="1" lang="th-TH" sz="3600" spc="-1" strike="noStrike">
                <a:solidFill>
                  <a:srgbClr val="ffffff"/>
                </a:solidFill>
                <a:latin typeface="Cordia New"/>
                <a:cs typeface="Cordia New"/>
              </a:rPr>
              <a:t>งาน </a:t>
            </a:r>
            <a:r>
              <a:rPr b="1" lang="th-TH" sz="3600" spc="-1" strike="noStrike">
                <a:solidFill>
                  <a:srgbClr val="ffffff"/>
                </a:solidFill>
                <a:latin typeface="Cordia New"/>
                <a:ea typeface="Cordia New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41120" y="2133720"/>
            <a:ext cx="2320920" cy="825480"/>
          </a:xfrm>
          <a:prstGeom prst="rect">
            <a:avLst/>
          </a:prstGeom>
          <a:solidFill>
            <a:srgbClr val="ffff99"/>
          </a:solidFill>
          <a:ln w="3240">
            <a:solidFill>
              <a:srgbClr val="003366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Cordia New"/>
                <a:cs typeface="Cordia New"/>
              </a:rPr>
              <a:t>แบบ ปย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.</a:t>
            </a:r>
            <a:r>
              <a:rPr b="0" lang="en-US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2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  (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cs typeface="Cordia New"/>
              </a:rPr>
              <a:t>ปี 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54 )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141120" y="3581280"/>
            <a:ext cx="23209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  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cs typeface="Cordia New"/>
              </a:rPr>
              <a:t>แบบติดตาม ปย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.</a:t>
            </a:r>
            <a:r>
              <a:rPr b="0" lang="en-US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2673360" y="2060640"/>
            <a:ext cx="2531880" cy="825480"/>
          </a:xfrm>
          <a:prstGeom prst="rect">
            <a:avLst/>
          </a:prstGeom>
          <a:solidFill>
            <a:srgbClr val="66ff9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Cordia New"/>
                <a:cs typeface="Cordia New"/>
              </a:rPr>
              <a:t>ประเมิน</a:t>
            </a:r>
            <a:r>
              <a:rPr b="0" lang="en-US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5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cs typeface="Cordia New"/>
              </a:rPr>
              <a:t>องค์ประกอ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2813040" y="3505320"/>
            <a:ext cx="2320920" cy="459720"/>
          </a:xfrm>
          <a:prstGeom prst="rect">
            <a:avLst/>
          </a:prstGeom>
          <a:solidFill>
            <a:srgbClr val="66ff99"/>
          </a:solidFill>
          <a:ln w="6480">
            <a:solidFill>
              <a:srgbClr val="003366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700" spc="-1" strike="noStrike">
                <a:solidFill>
                  <a:srgbClr val="003366"/>
                </a:solidFill>
                <a:latin typeface="Cordia New"/>
                <a:cs typeface="Cordia New"/>
              </a:rPr>
              <a:t>แบบ ปย</a:t>
            </a:r>
            <a:r>
              <a:rPr b="0" lang="th-TH" sz="1700" spc="-1" strike="noStrike">
                <a:solidFill>
                  <a:srgbClr val="003366"/>
                </a:solidFill>
                <a:latin typeface="Cordia New"/>
                <a:ea typeface="Cordia New"/>
              </a:rPr>
              <a:t>.</a:t>
            </a:r>
            <a:r>
              <a:rPr b="0" lang="en-US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7362360" y="2187720"/>
            <a:ext cx="1750320" cy="825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Cordia New"/>
                <a:cs typeface="Cordia New"/>
              </a:rPr>
              <a:t>แบบสอบถาม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      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(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cs typeface="Cordia New"/>
              </a:rPr>
              <a:t>ถ้ามี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5416560" y="2133720"/>
            <a:ext cx="1963800" cy="119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Cordia New"/>
                <a:cs typeface="Cordia New"/>
              </a:rPr>
              <a:t>ประเมินด้วยตนเอง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(</a:t>
            </a:r>
            <a:r>
              <a:rPr b="0" lang="en-US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CSA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2320920" y="4724280"/>
            <a:ext cx="3376440" cy="459720"/>
          </a:xfrm>
          <a:prstGeom prst="rect">
            <a:avLst/>
          </a:prstGeom>
          <a:solidFill>
            <a:srgbClr val="ff7c80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Cordia New"/>
                <a:cs typeface="Cordia New"/>
              </a:rPr>
              <a:t>แบบ ปย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.</a:t>
            </a:r>
            <a:r>
              <a:rPr b="0" lang="en-US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2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 ( 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cs typeface="Cordia New"/>
              </a:rPr>
              <a:t>ปี 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55 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2390760" y="6049800"/>
            <a:ext cx="3476520" cy="94716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3366"/>
                </a:solidFill>
                <a:latin typeface="Cordia New"/>
                <a:cs typeface="Cordia New"/>
              </a:rPr>
              <a:t>แบบ ปอ</a:t>
            </a:r>
            <a:r>
              <a:rPr b="0" lang="th-TH" sz="3200" spc="-1" strike="noStrike">
                <a:solidFill>
                  <a:srgbClr val="003366"/>
                </a:solidFill>
                <a:latin typeface="Cordia New"/>
                <a:ea typeface="Cordia New"/>
              </a:rPr>
              <a:t>.</a:t>
            </a:r>
            <a:r>
              <a:rPr b="0" lang="en-US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3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 (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cs typeface="Cordia New"/>
              </a:rPr>
              <a:t>สพฐ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. 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cs typeface="Cordia New"/>
              </a:rPr>
              <a:t>สพป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./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cs typeface="Cordia New"/>
              </a:rPr>
              <a:t>สพม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. /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cs typeface="Cordia New"/>
              </a:rPr>
              <a:t>ร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.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cs typeface="Cordia New"/>
              </a:rPr>
              <a:t>ร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. 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AutoShape 11"/>
          <p:cNvSpPr/>
          <p:nvPr/>
        </p:nvSpPr>
        <p:spPr>
          <a:xfrm rot="2770200">
            <a:off x="6740640" y="2414520"/>
            <a:ext cx="304920" cy="3095280"/>
          </a:xfrm>
          <a:prstGeom prst="downArrow">
            <a:avLst>
              <a:gd name="adj1" fmla="val 0"/>
              <a:gd name="adj2" fmla="val 0"/>
            </a:avLst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1f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1406520" y="270828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4010040" y="266688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Line 14"/>
          <p:cNvSpPr/>
          <p:nvPr/>
        </p:nvSpPr>
        <p:spPr>
          <a:xfrm flipH="1">
            <a:off x="5219280" y="2971800"/>
            <a:ext cx="1104840" cy="1609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Line 15"/>
          <p:cNvSpPr/>
          <p:nvPr/>
        </p:nvSpPr>
        <p:spPr>
          <a:xfrm flipH="1">
            <a:off x="5838480" y="3048120"/>
            <a:ext cx="2390760" cy="19047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Line 16"/>
          <p:cNvSpPr/>
          <p:nvPr/>
        </p:nvSpPr>
        <p:spPr>
          <a:xfrm>
            <a:off x="1332000" y="4149720"/>
            <a:ext cx="9144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Line 17"/>
          <p:cNvSpPr/>
          <p:nvPr/>
        </p:nvSpPr>
        <p:spPr>
          <a:xfrm>
            <a:off x="4010040" y="4038480"/>
            <a:ext cx="0" cy="6098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Line 18"/>
          <p:cNvSpPr/>
          <p:nvPr/>
        </p:nvSpPr>
        <p:spPr>
          <a:xfrm>
            <a:off x="3995640" y="5300640"/>
            <a:ext cx="0" cy="609480"/>
          </a:xfrm>
          <a:prstGeom prst="line">
            <a:avLst/>
          </a:prstGeom>
          <a:ln w="28440">
            <a:solidFill>
              <a:srgbClr val="660066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ตัวยึดหมายเลขภาพนิ่ง 19"/>
          <p:cNvSpPr/>
          <p:nvPr/>
        </p:nvSpPr>
        <p:spPr>
          <a:xfrm>
            <a:off x="84240" y="6243480"/>
            <a:ext cx="587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1167-60BB-48B0-B7C4-FEF88AFB423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680040" y="83412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4100" spc="-1" strike="noStrike">
                <a:solidFill>
                  <a:srgbClr val="000000"/>
                </a:solidFill>
                <a:latin typeface="Arial"/>
              </a:rPr>
              <a:t>สรุปแบบรายงานที่ กลุ่ม</a:t>
            </a:r>
            <a:r>
              <a:rPr b="1" lang="th-TH" sz="4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th-TH" sz="4100" spc="-1" strike="noStrike">
                <a:solidFill>
                  <a:srgbClr val="000000"/>
                </a:solidFill>
                <a:latin typeface="Arial"/>
              </a:rPr>
              <a:t>งาน ต้องดำเนินการ</a:t>
            </a:r>
            <a:endParaRPr b="1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836280" y="2361960"/>
            <a:ext cx="7692840" cy="37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87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35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th-TH" sz="3500" spc="-1" strike="noStrike" u="sng">
                <a:solidFill>
                  <a:srgbClr val="000000"/>
                </a:solidFill>
                <a:uFillTx/>
                <a:latin typeface="Arial"/>
              </a:rPr>
              <a:t>แบบที่จัดส่งให้ผู้รับผิดชอบ</a:t>
            </a: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th-TH" sz="35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1" lang="th-TH" sz="3500" spc="-1" strike="noStrike">
                <a:solidFill>
                  <a:srgbClr val="ff0000"/>
                </a:solidFill>
                <a:latin typeface="Arial"/>
              </a:rPr>
              <a:t>แบบ ปย</a:t>
            </a:r>
            <a:r>
              <a:rPr b="1" lang="th-TH" sz="3500" spc="-1" strike="noStrike">
                <a:solidFill>
                  <a:srgbClr val="ff0000"/>
                </a:solidFill>
                <a:latin typeface="Arial"/>
              </a:rPr>
              <a:t>. 1                                                                             - </a:t>
            </a:r>
            <a:r>
              <a:rPr b="1" lang="th-TH" sz="3500" spc="-1" strike="noStrike">
                <a:solidFill>
                  <a:srgbClr val="ff0000"/>
                </a:solidFill>
                <a:latin typeface="Arial"/>
              </a:rPr>
              <a:t>แบบ ปย</a:t>
            </a:r>
            <a:r>
              <a:rPr b="1" lang="th-TH" sz="3500" spc="-1" strike="noStrike">
                <a:solidFill>
                  <a:srgbClr val="ff0000"/>
                </a:solidFill>
                <a:latin typeface="Arial"/>
              </a:rPr>
              <a:t>. 2</a:t>
            </a:r>
            <a:endParaRPr b="0" lang="en-US" sz="3500" spc="-1" strike="noStrike">
              <a:solidFill>
                <a:srgbClr val="003366"/>
              </a:solidFill>
              <a:latin typeface="Arial"/>
            </a:endParaRPr>
          </a:p>
          <a:p>
            <a:pPr marL="305280" indent="0">
              <a:spcBef>
                <a:spcPts val="87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3500" spc="-1" strike="noStrike">
                <a:solidFill>
                  <a:srgbClr val="6600ff"/>
                </a:solidFill>
                <a:latin typeface="Arial"/>
              </a:rPr>
              <a:t>     </a:t>
            </a:r>
            <a:r>
              <a:rPr b="1" lang="th-TH" sz="3500" spc="-1" strike="noStrike">
                <a:solidFill>
                  <a:srgbClr val="6600ff"/>
                </a:solidFill>
                <a:latin typeface="Arial"/>
              </a:rPr>
              <a:t>- </a:t>
            </a: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แบบติดตาม ปย</a:t>
            </a: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. 2</a:t>
            </a:r>
            <a:endParaRPr b="0" lang="en-US" sz="3500" spc="-1" strike="noStrike">
              <a:solidFill>
                <a:srgbClr val="003366"/>
              </a:solidFill>
              <a:latin typeface="Arial"/>
            </a:endParaRPr>
          </a:p>
          <a:p>
            <a:pPr marL="305280" indent="0">
              <a:spcBef>
                <a:spcPts val="87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35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th-TH" sz="3500" spc="-1" strike="noStrike" u="sng">
                <a:solidFill>
                  <a:srgbClr val="000000"/>
                </a:solidFill>
                <a:uFillTx/>
                <a:latin typeface="Arial"/>
              </a:rPr>
              <a:t>แบบที่เก็บไว้ที่ กลุ่ม</a:t>
            </a:r>
            <a:r>
              <a:rPr b="1" lang="th-TH" sz="3500" spc="-1" strike="noStrike" u="sng">
                <a:solidFill>
                  <a:srgbClr val="000000"/>
                </a:solidFill>
                <a:uFillTx/>
                <a:latin typeface="Arial"/>
              </a:rPr>
              <a:t>/</a:t>
            </a:r>
            <a:r>
              <a:rPr b="1" lang="th-TH" sz="3500" spc="-1" strike="noStrike" u="sng">
                <a:solidFill>
                  <a:srgbClr val="000000"/>
                </a:solidFill>
                <a:uFillTx/>
                <a:latin typeface="Arial"/>
              </a:rPr>
              <a:t>งาน</a:t>
            </a: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3500" spc="-1" strike="noStrike">
              <a:solidFill>
                <a:srgbClr val="003366"/>
              </a:solidFill>
              <a:latin typeface="Arial"/>
            </a:endParaRPr>
          </a:p>
          <a:p>
            <a:pPr marL="305280" indent="0">
              <a:spcBef>
                <a:spcPts val="87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th-TH" sz="3500" spc="-1" strike="noStrike">
                <a:solidFill>
                  <a:srgbClr val="008000"/>
                </a:solidFill>
                <a:latin typeface="Arial"/>
              </a:rPr>
              <a:t>- </a:t>
            </a:r>
            <a:r>
              <a:rPr b="1" lang="th-TH" sz="3500" spc="-1" strike="noStrike">
                <a:solidFill>
                  <a:srgbClr val="0000ff"/>
                </a:solidFill>
                <a:latin typeface="Arial"/>
              </a:rPr>
              <a:t>แบบประเมิน </a:t>
            </a:r>
            <a:r>
              <a:rPr b="1" lang="th-TH" sz="3500" spc="-1" strike="noStrike">
                <a:solidFill>
                  <a:srgbClr val="0000ff"/>
                </a:solidFill>
                <a:latin typeface="Arial"/>
              </a:rPr>
              <a:t>5 </a:t>
            </a:r>
            <a:r>
              <a:rPr b="1" lang="th-TH" sz="3500" spc="-1" strike="noStrike">
                <a:solidFill>
                  <a:srgbClr val="0000ff"/>
                </a:solidFill>
                <a:latin typeface="Arial"/>
              </a:rPr>
              <a:t>องค์ประกอบ</a:t>
            </a:r>
            <a:endParaRPr b="0" lang="en-US" sz="3500" spc="-1" strike="noStrike">
              <a:solidFill>
                <a:srgbClr val="003366"/>
              </a:solidFill>
              <a:latin typeface="Arial"/>
            </a:endParaRPr>
          </a:p>
          <a:p>
            <a:pPr marL="305280" indent="0">
              <a:spcBef>
                <a:spcPts val="87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500" spc="-1" strike="noStrike">
              <a:solidFill>
                <a:srgbClr val="003366"/>
              </a:solidFill>
              <a:latin typeface="Arial"/>
            </a:endParaRPr>
          </a:p>
          <a:p>
            <a:pPr marL="305280" indent="0">
              <a:spcBef>
                <a:spcPts val="87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ตัวยึดหมายเลขภาพนิ่ง 4"/>
          <p:cNvSpPr/>
          <p:nvPr/>
        </p:nvSpPr>
        <p:spPr>
          <a:xfrm>
            <a:off x="84240" y="6243480"/>
            <a:ext cx="587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24B3-B60A-423D-8692-FCD8E63599C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29560" y="834120"/>
            <a:ext cx="83880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rial"/>
              </a:rPr>
              <a:t>แบบฟอร์มของหน่วยรับตรวจ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61760" y="2286000"/>
            <a:ext cx="6629400" cy="35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23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23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836640" y="2286000"/>
            <a:ext cx="8307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531720" indent="-531720">
              <a:spcBef>
                <a:spcPts val="2188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3500" spc="-1" strike="noStrike">
                <a:solidFill>
                  <a:srgbClr val="008000"/>
                </a:solidFill>
                <a:latin typeface="Arial"/>
              </a:rPr>
              <a:t>  </a:t>
            </a:r>
            <a:endParaRPr b="0" lang="en-US" sz="3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2211480" y="2516040"/>
            <a:ext cx="53337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7720" y="2361960"/>
            <a:ext cx="8153640" cy="37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3600" spc="-1" strike="noStrike">
                <a:solidFill>
                  <a:srgbClr val="ff0000"/>
                </a:solidFill>
                <a:latin typeface="Arial"/>
              </a:rPr>
              <a:t>แบบ ปอ</a:t>
            </a:r>
            <a:r>
              <a:rPr b="0" lang="th-TH" sz="3600" spc="-1" strike="noStrike">
                <a:solidFill>
                  <a:srgbClr val="ff0000"/>
                </a:solidFill>
                <a:latin typeface="Arial"/>
              </a:rPr>
              <a:t>.1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หนังสือรับรองการประเมินผลการควบคุมภายใน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246960" indent="-24696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3600" spc="-1" strike="noStrike">
                <a:solidFill>
                  <a:srgbClr val="ff0000"/>
                </a:solidFill>
                <a:latin typeface="Arial"/>
              </a:rPr>
              <a:t>แบบ ปอ</a:t>
            </a:r>
            <a:r>
              <a:rPr b="0" lang="th-TH" sz="3600" spc="-1" strike="noStrike">
                <a:solidFill>
                  <a:srgbClr val="ff0000"/>
                </a:solidFill>
                <a:latin typeface="Arial"/>
              </a:rPr>
              <a:t>.2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รายงานผลการประเมินองค์ประกอบของ           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246960" indent="-24696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การควบคุมภายใน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246960" indent="-24696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3600" spc="-1" strike="noStrike">
                <a:solidFill>
                  <a:srgbClr val="ff0000"/>
                </a:solidFill>
                <a:latin typeface="Arial"/>
              </a:rPr>
              <a:t>แบบ ปอ</a:t>
            </a:r>
            <a:r>
              <a:rPr b="0" lang="th-TH" sz="3600" spc="-1" strike="noStrike">
                <a:solidFill>
                  <a:srgbClr val="ff0000"/>
                </a:solidFill>
                <a:latin typeface="Arial"/>
              </a:rPr>
              <a:t>. 3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รายงานแผนการปรับปรุงการควบคุมภายใน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246960" indent="-24696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3600" spc="-1" strike="noStrike">
                <a:solidFill>
                  <a:srgbClr val="0000ff"/>
                </a:solidFill>
                <a:latin typeface="Arial"/>
              </a:rPr>
              <a:t>แบบติดตาม ปอ</a:t>
            </a:r>
            <a:r>
              <a:rPr b="1" lang="th-TH" sz="3600" spc="-1" strike="noStrike">
                <a:solidFill>
                  <a:srgbClr val="0000ff"/>
                </a:solidFill>
                <a:latin typeface="Arial"/>
              </a:rPr>
              <a:t>.3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: </a:t>
            </a:r>
            <a:r>
              <a:rPr b="0" lang="th-TH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th-TH" sz="3600" spc="-1" strike="noStrike">
                <a:solidFill>
                  <a:srgbClr val="0000ff"/>
                </a:solidFill>
                <a:latin typeface="Arial"/>
              </a:rPr>
              <a:t>รายงานผลการติดตามการปฏิบัติตามแผน             การปรับปรุงการควบคุมภายใน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ตัวยึดหมายเลขภาพนิ่ง 7"/>
          <p:cNvSpPr/>
          <p:nvPr/>
        </p:nvSpPr>
        <p:spPr>
          <a:xfrm>
            <a:off x="84240" y="6243480"/>
            <a:ext cx="587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A07A9-78BF-444F-9993-D58ED4BFA51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405800" y="339480"/>
            <a:ext cx="6941160" cy="1530720"/>
          </a:xfrm>
          <a:prstGeom prst="rect">
            <a:avLst/>
          </a:prstGeom>
          <a:solidFill>
            <a:srgbClr val="800000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666699">
                <a:alpha val="50000"/>
              </a:srgbClr>
            </a:outerShdw>
          </a:effectLst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th-TH" sz="3600" spc="-1" strike="noStrike">
                <a:solidFill>
                  <a:srgbClr val="ffffff"/>
                </a:solidFill>
                <a:latin typeface="Cordia New"/>
                <a:cs typeface="Cordia New"/>
              </a:rPr>
              <a:t>สรุปขั้นตอนการจัดทำรายงาน </a:t>
            </a:r>
            <a:br>
              <a:rPr sz="3600"/>
            </a:br>
            <a:r>
              <a:rPr b="1" lang="th-TH" sz="3600" spc="-1" strike="noStrike">
                <a:solidFill>
                  <a:srgbClr val="ffffff"/>
                </a:solidFill>
                <a:latin typeface="Cordia New"/>
                <a:cs typeface="Cordia New"/>
              </a:rPr>
              <a:t>ข</a:t>
            </a:r>
            <a:r>
              <a:rPr b="1" lang="th-TH" sz="3600" spc="-1" strike="noStrike">
                <a:solidFill>
                  <a:srgbClr val="ffffff"/>
                </a:solidFill>
                <a:latin typeface="Cordia New"/>
                <a:ea typeface="Cordia New"/>
              </a:rPr>
              <a:t>. </a:t>
            </a:r>
            <a:r>
              <a:rPr b="1" lang="th-TH" sz="3600" spc="-1" strike="noStrike">
                <a:solidFill>
                  <a:srgbClr val="ffffff"/>
                </a:solidFill>
                <a:latin typeface="Cordia New"/>
                <a:cs typeface="Cordia New"/>
              </a:rPr>
              <a:t>หน่วยรับตรวจ </a:t>
            </a:r>
            <a:r>
              <a:rPr b="1" lang="th-TH" sz="3600" spc="-1" strike="noStrike">
                <a:solidFill>
                  <a:srgbClr val="ffffff"/>
                </a:solidFill>
                <a:latin typeface="Cordia New"/>
                <a:ea typeface="Cordia New"/>
              </a:rPr>
              <a:t>( </a:t>
            </a:r>
            <a:r>
              <a:rPr b="1" lang="th-TH" sz="3600" spc="-1" strike="noStrike">
                <a:solidFill>
                  <a:srgbClr val="ffffff"/>
                </a:solidFill>
                <a:latin typeface="Cordia New"/>
                <a:cs typeface="Cordia New"/>
              </a:rPr>
              <a:t>ร</a:t>
            </a:r>
            <a:r>
              <a:rPr b="1" lang="th-TH" sz="3600" spc="-1" strike="noStrike">
                <a:solidFill>
                  <a:srgbClr val="ffffff"/>
                </a:solidFill>
                <a:latin typeface="Cordia New"/>
                <a:ea typeface="Cordia New"/>
              </a:rPr>
              <a:t>.</a:t>
            </a:r>
            <a:r>
              <a:rPr b="1" lang="th-TH" sz="3600" spc="-1" strike="noStrike">
                <a:solidFill>
                  <a:srgbClr val="ffffff"/>
                </a:solidFill>
                <a:latin typeface="Cordia New"/>
                <a:cs typeface="Cordia New"/>
              </a:rPr>
              <a:t>ร</a:t>
            </a:r>
            <a:r>
              <a:rPr b="1" lang="th-TH" sz="3600" spc="-1" strike="noStrike">
                <a:solidFill>
                  <a:srgbClr val="ffffff"/>
                </a:solidFill>
                <a:latin typeface="Cordia New"/>
                <a:ea typeface="Cordia New"/>
              </a:rPr>
              <a:t>. )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210960" y="2039760"/>
            <a:ext cx="2321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Cordia New"/>
                <a:cs typeface="Cordia New"/>
              </a:rPr>
              <a:t>แบบปอ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.</a:t>
            </a:r>
            <a:r>
              <a:rPr b="0" lang="en-US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3 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( 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cs typeface="Cordia New"/>
              </a:rPr>
              <a:t>ปี 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54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758880" y="3822840"/>
            <a:ext cx="169920" cy="48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141120" y="3352680"/>
            <a:ext cx="2391120" cy="45972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Cordia New"/>
                <a:cs typeface="Cordia New"/>
              </a:rPr>
              <a:t>แบบติดตาม ปอ</a:t>
            </a:r>
            <a:r>
              <a:rPr b="0" lang="en-US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. 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3079800" y="2146320"/>
            <a:ext cx="169920" cy="48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884320" y="1981080"/>
            <a:ext cx="2743200" cy="82548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Cordia New"/>
                <a:cs typeface="Cordia New"/>
              </a:rPr>
              <a:t>ประเมิน </a:t>
            </a:r>
            <a:r>
              <a:rPr b="0" lang="en-US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5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cs typeface="Cordia New"/>
              </a:rPr>
              <a:t>องค์ประกอ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3009960" y="3517920"/>
            <a:ext cx="169920" cy="48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2954160" y="3332160"/>
            <a:ext cx="26733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Cordia New"/>
                <a:cs typeface="Cordia New"/>
              </a:rPr>
              <a:t>แบบ ปอ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.</a:t>
            </a:r>
            <a:r>
              <a:rPr b="0" lang="en-US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Text Box 10"/>
          <p:cNvSpPr/>
          <p:nvPr/>
        </p:nvSpPr>
        <p:spPr>
          <a:xfrm>
            <a:off x="5400720" y="2374920"/>
            <a:ext cx="171360" cy="48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Text Box 11"/>
          <p:cNvSpPr/>
          <p:nvPr/>
        </p:nvSpPr>
        <p:spPr>
          <a:xfrm>
            <a:off x="5763960" y="2035080"/>
            <a:ext cx="3209040" cy="459720"/>
          </a:xfrm>
          <a:prstGeom prst="rect">
            <a:avLst/>
          </a:prstGeom>
          <a:solidFill>
            <a:srgbClr val="ff3399"/>
          </a:solidFill>
          <a:ln w="9360">
            <a:solidFill>
              <a:srgbClr val="ff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Cordia New"/>
                <a:cs typeface="Cordia New"/>
              </a:rPr>
              <a:t>แบบ ปย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.</a:t>
            </a:r>
            <a:r>
              <a:rPr b="0" lang="en-US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2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 (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cs typeface="Cordia New"/>
              </a:rPr>
              <a:t>ส่วนงานย่อย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Text Box 12"/>
          <p:cNvSpPr/>
          <p:nvPr/>
        </p:nvSpPr>
        <p:spPr>
          <a:xfrm>
            <a:off x="2954160" y="4457880"/>
            <a:ext cx="2602080" cy="459720"/>
          </a:xfrm>
          <a:prstGeom prst="rect">
            <a:avLst/>
          </a:prstGeom>
          <a:solidFill>
            <a:srgbClr val="99ff99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Cordia New"/>
                <a:cs typeface="Cordia New"/>
              </a:rPr>
              <a:t>แบบปอ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.</a:t>
            </a:r>
            <a:r>
              <a:rPr b="0" lang="en-US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3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 ( 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cs typeface="Cordia New"/>
              </a:rPr>
              <a:t>ปี 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55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Text Box 13"/>
          <p:cNvSpPr/>
          <p:nvPr/>
        </p:nvSpPr>
        <p:spPr>
          <a:xfrm>
            <a:off x="3492360" y="5589720"/>
            <a:ext cx="1616040" cy="45972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Cordia New"/>
                <a:cs typeface="Cordia New"/>
              </a:rPr>
              <a:t>แบบ ปอ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.</a:t>
            </a:r>
            <a:r>
              <a:rPr b="0" lang="en-US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Text Box 14"/>
          <p:cNvSpPr/>
          <p:nvPr/>
        </p:nvSpPr>
        <p:spPr>
          <a:xfrm>
            <a:off x="6443640" y="5589720"/>
            <a:ext cx="1938240" cy="119124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Cordia New"/>
                <a:cs typeface="Cordia New"/>
              </a:rPr>
              <a:t>แบบ ปส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. (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cs typeface="Cordia New"/>
              </a:rPr>
              <a:t>จัดทำเฉพาะ สพป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Line 15"/>
          <p:cNvSpPr/>
          <p:nvPr/>
        </p:nvSpPr>
        <p:spPr>
          <a:xfrm>
            <a:off x="4343400" y="243828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Line 16"/>
          <p:cNvSpPr/>
          <p:nvPr/>
        </p:nvSpPr>
        <p:spPr>
          <a:xfrm>
            <a:off x="1336680" y="2590920"/>
            <a:ext cx="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Line 17"/>
          <p:cNvSpPr/>
          <p:nvPr/>
        </p:nvSpPr>
        <p:spPr>
          <a:xfrm>
            <a:off x="1336680" y="3886200"/>
            <a:ext cx="16174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Line 18"/>
          <p:cNvSpPr/>
          <p:nvPr/>
        </p:nvSpPr>
        <p:spPr>
          <a:xfrm>
            <a:off x="4290840" y="3809880"/>
            <a:ext cx="0" cy="6098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Line 21"/>
          <p:cNvSpPr/>
          <p:nvPr/>
        </p:nvSpPr>
        <p:spPr>
          <a:xfrm>
            <a:off x="4284720" y="494172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Line 22"/>
          <p:cNvSpPr/>
          <p:nvPr/>
        </p:nvSpPr>
        <p:spPr>
          <a:xfrm>
            <a:off x="5148360" y="5805360"/>
            <a:ext cx="1224000" cy="0"/>
          </a:xfrm>
          <a:prstGeom prst="line">
            <a:avLst/>
          </a:prstGeom>
          <a:ln w="38160">
            <a:solidFill>
              <a:srgbClr val="ff33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Line 23"/>
          <p:cNvSpPr/>
          <p:nvPr/>
        </p:nvSpPr>
        <p:spPr>
          <a:xfrm>
            <a:off x="5580000" y="4941720"/>
            <a:ext cx="936720" cy="574920"/>
          </a:xfrm>
          <a:prstGeom prst="line">
            <a:avLst/>
          </a:prstGeom>
          <a:ln w="38160">
            <a:solidFill>
              <a:srgbClr val="ff33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Line 25"/>
          <p:cNvSpPr/>
          <p:nvPr/>
        </p:nvSpPr>
        <p:spPr>
          <a:xfrm flipH="1">
            <a:off x="5638320" y="2514600"/>
            <a:ext cx="1752840" cy="1828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Text Box 26"/>
          <p:cNvSpPr/>
          <p:nvPr/>
        </p:nvSpPr>
        <p:spPr>
          <a:xfrm>
            <a:off x="7756560" y="6084720"/>
            <a:ext cx="18396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ตัวยึดหมายเลขภาพนิ่ง 24"/>
          <p:cNvSpPr/>
          <p:nvPr/>
        </p:nvSpPr>
        <p:spPr>
          <a:xfrm>
            <a:off x="84240" y="6243480"/>
            <a:ext cx="587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C10C-D6AE-4A74-B8E9-812D8C0CB53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744480" y="819360"/>
            <a:ext cx="7806600" cy="79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สรุปแบบรายงานการควบคุมภายใน</a:t>
            </a:r>
            <a:endParaRPr b="1" lang="en-US" sz="47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838080" y="2209680"/>
          <a:ext cx="7693200" cy="4187880"/>
        </p:xfrm>
        <a:graphic>
          <a:graphicData uri="http://schemas.openxmlformats.org/drawingml/2006/table">
            <a:tbl>
              <a:tblPr/>
              <a:tblGrid>
                <a:gridCol w="3846600"/>
                <a:gridCol w="3846600"/>
              </a:tblGrid>
              <a:tr h="899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หน่วยรับตรวจ                                       </a:t>
                      </a:r>
                      <a:r>
                        <a:rPr b="1" lang="th-TH" sz="2400" spc="-1" strike="noStrike">
                          <a:solidFill>
                            <a:srgbClr val="ff0000"/>
                          </a:solidFill>
                          <a:latin typeface="Angsana New"/>
                        </a:rPr>
                        <a:t>(</a:t>
                      </a:r>
                      <a:r>
                        <a:rPr b="1" lang="th-TH" sz="2400" spc="-1" strike="noStrike">
                          <a:solidFill>
                            <a:srgbClr val="ff0000"/>
                          </a:solidFill>
                          <a:latin typeface="Angsana New"/>
                        </a:rPr>
                        <a:t>โรงเรียน</a:t>
                      </a:r>
                      <a:r>
                        <a:rPr b="1" lang="th-TH" sz="2400" spc="-1" strike="noStrike">
                          <a:solidFill>
                            <a:srgbClr val="ff0000"/>
                          </a:solidFill>
                          <a:latin typeface="Angsana New"/>
                        </a:rPr>
                        <a:t>)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ส่วนงานย่อย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400" spc="-1" strike="noStrike">
                          <a:solidFill>
                            <a:srgbClr val="ff0000"/>
                          </a:solidFill>
                          <a:latin typeface="Angsana New"/>
                        </a:rPr>
                        <a:t>(</a:t>
                      </a:r>
                      <a:r>
                        <a:rPr b="1" lang="th-TH" sz="2400" spc="-1" strike="noStrike">
                          <a:solidFill>
                            <a:srgbClr val="ff0000"/>
                          </a:solidFill>
                          <a:latin typeface="Angsana New"/>
                        </a:rPr>
                        <a:t>งาน</a:t>
                      </a:r>
                      <a:r>
                        <a:rPr b="1" lang="th-TH" sz="2400" spc="-1" strike="noStrike">
                          <a:solidFill>
                            <a:srgbClr val="ff0000"/>
                          </a:solidFill>
                          <a:latin typeface="Angsana New"/>
                        </a:rPr>
                        <a:t>)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744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000" spc="-1" strike="noStrike" u="sng">
                          <a:solidFill>
                            <a:srgbClr val="3333ff"/>
                          </a:solidFill>
                          <a:uFillTx/>
                          <a:latin typeface="Arial"/>
                        </a:rPr>
                        <a:t>แบบรายงานที่จัดส่ง </a:t>
                      </a:r>
                      <a:r>
                        <a:rPr b="1" lang="th-TH" sz="2000" spc="-1" strike="noStrike" u="sng">
                          <a:solidFill>
                            <a:srgbClr val="00b050"/>
                          </a:solidFill>
                          <a:uFillTx/>
                          <a:latin typeface="Arial"/>
                        </a:rPr>
                        <a:t>สตง</a:t>
                      </a:r>
                      <a:r>
                        <a:rPr b="1" lang="th-TH" sz="2000" spc="-1" strike="noStrike" u="sng">
                          <a:solidFill>
                            <a:srgbClr val="00b050"/>
                          </a:solidFill>
                          <a:uFillTx/>
                          <a:latin typeface="Arial"/>
                        </a:rPr>
                        <a:t>.</a:t>
                      </a:r>
                      <a:r>
                        <a:rPr b="1" lang="th-TH" sz="2000" spc="-1" strike="noStrike" u="sng">
                          <a:solidFill>
                            <a:srgbClr val="00b050"/>
                          </a:solidFill>
                          <a:uFillTx/>
                          <a:latin typeface="Arial"/>
                        </a:rPr>
                        <a:t>ภูมิภาค </a:t>
                      </a:r>
                      <a:r>
                        <a:rPr b="1" lang="th-TH" sz="2000" spc="-1" strike="noStrike" u="sng">
                          <a:solidFill>
                            <a:srgbClr val="00b050"/>
                          </a:solidFill>
                          <a:uFillTx/>
                          <a:latin typeface="Arial"/>
                        </a:rPr>
                        <a:t>/ </a:t>
                      </a:r>
                      <a:r>
                        <a:rPr b="1" lang="th-TH" sz="2000" spc="-1" strike="noStrike" u="sng">
                          <a:solidFill>
                            <a:srgbClr val="3333ff"/>
                          </a:solidFill>
                          <a:uFillTx/>
                          <a:latin typeface="Arial"/>
                        </a:rPr>
                        <a:t>ผู้กำกับดูแล</a:t>
                      </a:r>
                      <a:r>
                        <a:rPr b="1" lang="th-TH" sz="2000" spc="-1" strike="noStrike" u="sng">
                          <a:solidFill>
                            <a:srgbClr val="3333ff"/>
                          </a:solidFill>
                          <a:uFillTx/>
                          <a:latin typeface="Arial"/>
                        </a:rPr>
                        <a:t>(</a:t>
                      </a:r>
                      <a:r>
                        <a:rPr b="1" lang="th-TH" sz="2000" spc="-1" strike="noStrike" u="sng">
                          <a:solidFill>
                            <a:srgbClr val="3333ff"/>
                          </a:solidFill>
                          <a:uFillTx/>
                          <a:latin typeface="Arial"/>
                        </a:rPr>
                        <a:t>สพป</a:t>
                      </a:r>
                      <a:r>
                        <a:rPr b="1" lang="th-TH" sz="2000" spc="-1" strike="noStrike" u="sng">
                          <a:solidFill>
                            <a:srgbClr val="3333ff"/>
                          </a:solidFill>
                          <a:uFillTx/>
                          <a:latin typeface="Arial"/>
                        </a:rPr>
                        <a:t>.)</a:t>
                      </a:r>
                      <a:r>
                        <a:rPr b="1" lang="th-TH" sz="2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       </a:t>
                      </a:r>
                      <a:r>
                        <a:rPr b="0" lang="th-TH" sz="2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th-TH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th-TH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แบบ ปอ</a:t>
                      </a:r>
                      <a:r>
                        <a:rPr b="0" lang="th-TH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1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500" spc="-1" strike="noStrike" u="sng">
                          <a:solidFill>
                            <a:srgbClr val="990099"/>
                          </a:solidFill>
                          <a:uFillTx/>
                          <a:latin typeface="Arial"/>
                        </a:rPr>
                        <a:t>แบบรายงานที่เก็บไว้ที่หน่วยงาน                </a:t>
                      </a:r>
                      <a:r>
                        <a:rPr b="0" lang="th-TH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0" lang="th-TH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แบบ ปอ</a:t>
                      </a:r>
                      <a:r>
                        <a:rPr b="0" lang="th-TH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2                                               2. </a:t>
                      </a:r>
                      <a:r>
                        <a:rPr b="0" lang="th-TH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แบบ ปอ</a:t>
                      </a:r>
                      <a:r>
                        <a:rPr b="0" lang="th-TH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3                                               3. </a:t>
                      </a:r>
                      <a:r>
                        <a:rPr b="0" lang="th-TH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แบบ ปส</a:t>
                      </a:r>
                      <a:r>
                        <a:rPr b="0" lang="th-TH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0" lang="th-TH" sz="2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</a:t>
                      </a:r>
                      <a:r>
                        <a:rPr b="0" lang="th-TH" sz="2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เฉพาะ สพป</a:t>
                      </a:r>
                      <a:r>
                        <a:rPr b="0" lang="th-TH" sz="2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) 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th-TH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</a:t>
                      </a:r>
                      <a:r>
                        <a:rPr b="0" lang="th-TH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แบบติดตาม ปอ</a:t>
                      </a:r>
                      <a:r>
                        <a:rPr b="0" lang="th-TH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3                                    5. </a:t>
                      </a:r>
                      <a:r>
                        <a:rPr b="0" lang="th-TH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แบบประเมิน </a:t>
                      </a:r>
                      <a:r>
                        <a:rPr b="0" lang="th-TH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0" lang="th-TH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องค์ประกอบ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531720" indent="-531720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500" spc="-1" strike="noStrike" u="sng">
                          <a:solidFill>
                            <a:srgbClr val="3333ff"/>
                          </a:solidFill>
                          <a:uFillTx/>
                          <a:latin typeface="Arial"/>
                        </a:rPr>
                        <a:t>แบบรายงานที่จัดส่งให้หน่วยรับตรวจ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531720" indent="-531720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th-TH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0" lang="th-TH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แบบ ปย</a:t>
                      </a:r>
                      <a:r>
                        <a:rPr b="0" lang="th-TH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1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531720" indent="-531720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th-TH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r>
                        <a:rPr b="0" lang="th-TH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แบบ ปย</a:t>
                      </a:r>
                      <a:r>
                        <a:rPr b="0" lang="th-TH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2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531720" indent="-531720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th-TH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</a:t>
                      </a:r>
                      <a:r>
                        <a:rPr b="0" lang="th-TH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แบบติดตาม ปย</a:t>
                      </a:r>
                      <a:r>
                        <a:rPr b="0" lang="th-TH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531720" indent="-531720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500" spc="-1" strike="noStrike" u="sng">
                          <a:solidFill>
                            <a:srgbClr val="990099"/>
                          </a:solidFill>
                          <a:uFillTx/>
                          <a:latin typeface="Arial"/>
                        </a:rPr>
                        <a:t>แบบรายงานที่จัดเก็บ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531720" indent="-531720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th-TH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th-TH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แบบประเมิน </a:t>
                      </a:r>
                      <a:r>
                        <a:rPr b="0" lang="th-TH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0" lang="th-TH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องค์ประกอบ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ตัวยึดหมายเลขภาพนิ่ง 4"/>
          <p:cNvSpPr/>
          <p:nvPr/>
        </p:nvSpPr>
        <p:spPr>
          <a:xfrm>
            <a:off x="84240" y="6243480"/>
            <a:ext cx="587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8040-53BE-41A6-99E4-C858606D289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8"/>
          <p:cNvSpPr/>
          <p:nvPr/>
        </p:nvSpPr>
        <p:spPr>
          <a:xfrm>
            <a:off x="3963960" y="2436840"/>
            <a:ext cx="988920" cy="442080"/>
          </a:xfrm>
          <a:prstGeom prst="rect">
            <a:avLst/>
          </a:prstGeom>
          <a:solidFill>
            <a:srgbClr val="ffffc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2300" spc="-1" strike="noStrike">
                <a:solidFill>
                  <a:srgbClr val="339933"/>
                </a:solidFill>
                <a:latin typeface="Arial"/>
              </a:rPr>
              <a:t>สพฐ</a:t>
            </a:r>
            <a:r>
              <a:rPr b="1" lang="th-TH" sz="2300" spc="-1" strike="noStrike">
                <a:solidFill>
                  <a:srgbClr val="339933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3963960" y="4087800"/>
            <a:ext cx="1295280" cy="442080"/>
          </a:xfrm>
          <a:prstGeom prst="rect">
            <a:avLst/>
          </a:prstGeom>
          <a:solidFill>
            <a:srgbClr val="bcee8a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2300" spc="-1" strike="noStrike">
                <a:solidFill>
                  <a:srgbClr val="0000cc"/>
                </a:solidFill>
                <a:latin typeface="Arial"/>
              </a:rPr>
              <a:t>สพป</a:t>
            </a:r>
            <a:r>
              <a:rPr b="1" lang="th-TH" sz="23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Text Box 10"/>
          <p:cNvSpPr/>
          <p:nvPr/>
        </p:nvSpPr>
        <p:spPr>
          <a:xfrm>
            <a:off x="3963960" y="5791320"/>
            <a:ext cx="1143000" cy="792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2300" spc="-1" strike="noStrike">
                <a:solidFill>
                  <a:srgbClr val="ff0000"/>
                </a:solidFill>
                <a:latin typeface="Arial"/>
              </a:rPr>
              <a:t>โรงเรียน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Text Box 11"/>
          <p:cNvSpPr/>
          <p:nvPr/>
        </p:nvSpPr>
        <p:spPr>
          <a:xfrm>
            <a:off x="1941480" y="4751280"/>
            <a:ext cx="990720" cy="792360"/>
          </a:xfrm>
          <a:prstGeom prst="rect">
            <a:avLst/>
          </a:prstGeom>
          <a:solidFill>
            <a:srgbClr val="eea0da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2300" spc="-1" strike="noStrike">
                <a:solidFill>
                  <a:srgbClr val="003366"/>
                </a:solidFill>
                <a:latin typeface="Arial"/>
              </a:rPr>
              <a:t>สตง</a:t>
            </a:r>
            <a:r>
              <a:rPr b="1" lang="th-TH" sz="23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1" lang="th-TH" sz="2300" spc="-1" strike="noStrike">
                <a:solidFill>
                  <a:srgbClr val="003366"/>
                </a:solidFill>
                <a:latin typeface="Arial"/>
              </a:rPr>
              <a:t>ภูมิภาค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AutoShape 12"/>
          <p:cNvSpPr/>
          <p:nvPr/>
        </p:nvSpPr>
        <p:spPr>
          <a:xfrm>
            <a:off x="5397480" y="5291280"/>
            <a:ext cx="3122640" cy="1368360"/>
          </a:xfrm>
          <a:prstGeom prst="leftArrowCallout">
            <a:avLst>
              <a:gd name="adj1" fmla="val 25002"/>
              <a:gd name="adj2" fmla="val 25000"/>
              <a:gd name="adj3" fmla="val 38034"/>
              <a:gd name="adj4" fmla="val 66673"/>
            </a:avLst>
          </a:prstGeom>
          <a:solidFill>
            <a:srgbClr val="cc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1700" spc="-1" strike="noStrike">
                <a:solidFill>
                  <a:srgbClr val="ff6600"/>
                </a:solidFill>
                <a:latin typeface="Arial"/>
              </a:rPr>
              <a:t>- </a:t>
            </a:r>
            <a:r>
              <a:rPr b="0" lang="th-TH" sz="1700" spc="-1" strike="noStrike">
                <a:solidFill>
                  <a:srgbClr val="ff6600"/>
                </a:solidFill>
                <a:latin typeface="Arial"/>
              </a:rPr>
              <a:t>ส่งเฉพาะแบบ ปอ</a:t>
            </a:r>
            <a:r>
              <a:rPr b="0" lang="th-TH" sz="1700" spc="-1" strike="noStrike">
                <a:solidFill>
                  <a:srgbClr val="ff6600"/>
                </a:solidFill>
                <a:latin typeface="Arial"/>
              </a:rPr>
              <a:t>. 1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ส่วนแบบ ปอ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. 2 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และปอ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.3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เก็บไว้ที่หน่วยงาน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AutoShape 13"/>
          <p:cNvSpPr/>
          <p:nvPr/>
        </p:nvSpPr>
        <p:spPr>
          <a:xfrm>
            <a:off x="5370480" y="3675240"/>
            <a:ext cx="3127320" cy="1373040"/>
          </a:xfrm>
          <a:prstGeom prst="leftArrowCallout">
            <a:avLst>
              <a:gd name="adj1" fmla="val 25002"/>
              <a:gd name="adj2" fmla="val 25000"/>
              <a:gd name="adj3" fmla="val 37961"/>
              <a:gd name="adj4" fmla="val 66673"/>
            </a:avLst>
          </a:prstGeom>
          <a:solidFill>
            <a:srgbClr val="ff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1700" spc="-1" strike="noStrike">
                <a:solidFill>
                  <a:srgbClr val="ff6600"/>
                </a:solidFill>
                <a:latin typeface="Arial"/>
              </a:rPr>
              <a:t>- </a:t>
            </a:r>
            <a:r>
              <a:rPr b="0" lang="th-TH" sz="1700" spc="-1" strike="noStrike">
                <a:solidFill>
                  <a:srgbClr val="ff6600"/>
                </a:solidFill>
                <a:latin typeface="Arial"/>
              </a:rPr>
              <a:t>ส่งเฉพาะแบบ ปอ</a:t>
            </a:r>
            <a:r>
              <a:rPr b="0" lang="th-TH" sz="1700" spc="-1" strike="noStrike">
                <a:solidFill>
                  <a:srgbClr val="ff6600"/>
                </a:solidFill>
                <a:latin typeface="Arial"/>
              </a:rPr>
              <a:t>. 1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ส่วนแบบ ปอ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. 2 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และปอ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.3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เก็บไว้ที่หน่วยงาน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Line 14"/>
          <p:cNvSpPr/>
          <p:nvPr/>
        </p:nvSpPr>
        <p:spPr>
          <a:xfrm flipV="1">
            <a:off x="4497480" y="4647960"/>
            <a:ext cx="0" cy="1143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Line 15"/>
          <p:cNvSpPr/>
          <p:nvPr/>
        </p:nvSpPr>
        <p:spPr>
          <a:xfrm flipV="1">
            <a:off x="4497480" y="2896920"/>
            <a:ext cx="0" cy="1143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Line 16"/>
          <p:cNvSpPr/>
          <p:nvPr/>
        </p:nvSpPr>
        <p:spPr>
          <a:xfrm flipH="1">
            <a:off x="2360520" y="4341960"/>
            <a:ext cx="1603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Line 17"/>
          <p:cNvSpPr/>
          <p:nvPr/>
        </p:nvSpPr>
        <p:spPr>
          <a:xfrm flipH="1">
            <a:off x="2439720" y="6021360"/>
            <a:ext cx="15238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Line 18"/>
          <p:cNvSpPr/>
          <p:nvPr/>
        </p:nvSpPr>
        <p:spPr>
          <a:xfrm flipV="1">
            <a:off x="2440080" y="556416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Line 20"/>
          <p:cNvSpPr/>
          <p:nvPr/>
        </p:nvSpPr>
        <p:spPr>
          <a:xfrm>
            <a:off x="2360520" y="4341960"/>
            <a:ext cx="0" cy="3808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Text Box 21"/>
          <p:cNvSpPr/>
          <p:nvPr/>
        </p:nvSpPr>
        <p:spPr>
          <a:xfrm>
            <a:off x="1523880" y="992160"/>
            <a:ext cx="6402600" cy="17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5500" spc="-1" strike="noStrike">
                <a:solidFill>
                  <a:srgbClr val="ff0066"/>
                </a:solidFill>
                <a:latin typeface="Angsana New"/>
              </a:rPr>
              <a:t>แนวทางการจัดส่งรายงาน</a:t>
            </a:r>
            <a:endParaRPr b="0" lang="en-US" sz="5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Text Box 24"/>
          <p:cNvSpPr/>
          <p:nvPr/>
        </p:nvSpPr>
        <p:spPr>
          <a:xfrm>
            <a:off x="4646520" y="3124080"/>
            <a:ext cx="11430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1700" spc="-1" strike="noStrike">
                <a:solidFill>
                  <a:srgbClr val="000000"/>
                </a:solidFill>
                <a:latin typeface="Arial"/>
              </a:rPr>
              <a:t>แบบ ปอ</a:t>
            </a:r>
            <a:r>
              <a:rPr b="0" lang="th-TH" sz="1700" spc="-1" strike="noStrike">
                <a:solidFill>
                  <a:srgbClr val="000000"/>
                </a:solidFill>
                <a:latin typeface="Arial"/>
              </a:rPr>
              <a:t>. 1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Rectangle 25"/>
          <p:cNvSpPr/>
          <p:nvPr/>
        </p:nvSpPr>
        <p:spPr>
          <a:xfrm>
            <a:off x="4450680" y="4873680"/>
            <a:ext cx="11210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1700" spc="-1" strike="noStrike">
                <a:solidFill>
                  <a:srgbClr val="000000"/>
                </a:solidFill>
                <a:latin typeface="Arial"/>
              </a:rPr>
              <a:t>แบบ ปอ</a:t>
            </a:r>
            <a:r>
              <a:rPr b="0" lang="th-TH" sz="1700" spc="-1" strike="noStrike">
                <a:solidFill>
                  <a:srgbClr val="000000"/>
                </a:solidFill>
                <a:latin typeface="Arial"/>
              </a:rPr>
              <a:t>. 1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Rectangle 26"/>
          <p:cNvSpPr/>
          <p:nvPr/>
        </p:nvSpPr>
        <p:spPr>
          <a:xfrm>
            <a:off x="2624760" y="3881520"/>
            <a:ext cx="11210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1700" spc="-1" strike="noStrike">
                <a:solidFill>
                  <a:srgbClr val="000000"/>
                </a:solidFill>
                <a:latin typeface="Arial"/>
              </a:rPr>
              <a:t>แบบ ปอ</a:t>
            </a:r>
            <a:r>
              <a:rPr b="0" lang="th-TH" sz="1700" spc="-1" strike="noStrike">
                <a:solidFill>
                  <a:srgbClr val="000000"/>
                </a:solidFill>
                <a:latin typeface="Arial"/>
              </a:rPr>
              <a:t>. 1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Rectangle 27"/>
          <p:cNvSpPr/>
          <p:nvPr/>
        </p:nvSpPr>
        <p:spPr>
          <a:xfrm>
            <a:off x="2608920" y="6127920"/>
            <a:ext cx="11210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1700" spc="-1" strike="noStrike">
                <a:solidFill>
                  <a:srgbClr val="000000"/>
                </a:solidFill>
                <a:latin typeface="Arial"/>
              </a:rPr>
              <a:t>แบบ ปอ</a:t>
            </a:r>
            <a:r>
              <a:rPr b="0" lang="th-TH" sz="1700" spc="-1" strike="noStrike">
                <a:solidFill>
                  <a:srgbClr val="000000"/>
                </a:solidFill>
                <a:latin typeface="Arial"/>
              </a:rPr>
              <a:t>. 1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1905120" y="2438280"/>
            <a:ext cx="988920" cy="792360"/>
          </a:xfrm>
          <a:prstGeom prst="rect">
            <a:avLst/>
          </a:prstGeom>
          <a:solidFill>
            <a:srgbClr val="ffffc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2300" spc="-1" strike="noStrike">
                <a:solidFill>
                  <a:srgbClr val="ff3300"/>
                </a:solidFill>
                <a:latin typeface="Arial"/>
              </a:rPr>
              <a:t>คตป</a:t>
            </a:r>
            <a:r>
              <a:rPr b="1" lang="th-TH" sz="23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lang="th-TH" sz="2300" spc="-1" strike="noStrike">
                <a:solidFill>
                  <a:srgbClr val="ff3300"/>
                </a:solidFill>
                <a:latin typeface="Arial"/>
              </a:rPr>
              <a:t>ศธ</a:t>
            </a:r>
            <a:r>
              <a:rPr b="1" lang="th-TH" sz="23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Line 15"/>
          <p:cNvSpPr/>
          <p:nvPr/>
        </p:nvSpPr>
        <p:spPr>
          <a:xfrm flipV="1">
            <a:off x="2362320" y="2895480"/>
            <a:ext cx="46080" cy="1447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ตัวยึดหมายเลขภาพนิ่ง 22"/>
          <p:cNvSpPr/>
          <p:nvPr/>
        </p:nvSpPr>
        <p:spPr>
          <a:xfrm>
            <a:off x="84240" y="6243480"/>
            <a:ext cx="587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443F-B3F2-4D27-A3AE-ACFED9F3B24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Text Box 3"/>
          <p:cNvGrpSpPr/>
          <p:nvPr/>
        </p:nvGrpSpPr>
        <p:grpSpPr>
          <a:xfrm>
            <a:off x="755640" y="3809880"/>
            <a:ext cx="7486560" cy="1305000"/>
            <a:chOff x="755640" y="3809880"/>
            <a:chExt cx="7486560" cy="1305000"/>
          </a:xfrm>
        </p:grpSpPr>
        <p:pic>
          <p:nvPicPr>
            <p:cNvPr id="296" name="Text Box 3" descr=""/>
            <p:cNvPicPr/>
            <p:nvPr/>
          </p:nvPicPr>
          <p:blipFill>
            <a:blip r:embed="rId1"/>
            <a:stretch/>
          </p:blipFill>
          <p:spPr>
            <a:xfrm>
              <a:off x="755640" y="3809880"/>
              <a:ext cx="74865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990720" y="4046400"/>
              <a:ext cx="7010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“ </a:t>
              </a:r>
              <a:r>
                <a:rPr b="1" lang="th-TH" sz="2400" spc="-1" strike="noStrike">
                  <a:solidFill>
                    <a:srgbClr val="ffffff"/>
                  </a:solidFill>
                  <a:latin typeface="Tahoma"/>
                  <a:cs typeface="Tahoma"/>
                </a:rPr>
                <a:t>ความสำเร็จของการควบคุมภายใน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ffffff"/>
                  </a:solidFill>
                  <a:latin typeface="Tahoma"/>
                  <a:cs typeface="Tahoma"/>
                </a:rPr>
                <a:t>เกิดจากความร่วมมือ ร่วมใจของทุกคนในองค์กร “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8" name="TextBox 3"/>
          <p:cNvSpPr/>
          <p:nvPr/>
        </p:nvSpPr>
        <p:spPr>
          <a:xfrm>
            <a:off x="3348720" y="5359320"/>
            <a:ext cx="19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3600" spc="-1" strike="noStrike">
                <a:solidFill>
                  <a:srgbClr val="ff0000"/>
                </a:solidFill>
                <a:latin typeface="Tahoma"/>
                <a:cs typeface="Tahoma"/>
              </a:rPr>
              <a:t>สวัสดีครับ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9" name="Picture 10" descr="handshake"/>
          <p:cNvPicPr/>
          <p:nvPr/>
        </p:nvPicPr>
        <p:blipFill>
          <a:blip r:embed="rId2"/>
          <a:stretch/>
        </p:blipFill>
        <p:spPr>
          <a:xfrm>
            <a:off x="3714840" y="1714680"/>
            <a:ext cx="1477800" cy="1428480"/>
          </a:xfrm>
          <a:prstGeom prst="rect">
            <a:avLst/>
          </a:prstGeom>
          <a:ln w="0">
            <a:noFill/>
          </a:ln>
        </p:spPr>
      </p:pic>
      <p:sp>
        <p:nvSpPr>
          <p:cNvPr id="300" name="ตัวยึดหมายเลขภาพนิ่ง 6"/>
          <p:cNvSpPr/>
          <p:nvPr/>
        </p:nvSpPr>
        <p:spPr>
          <a:xfrm>
            <a:off x="74520" y="6246720"/>
            <a:ext cx="5875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18FB-6B23-492F-96DF-6F071723CB9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29560" y="834120"/>
            <a:ext cx="83880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rial"/>
              </a:rPr>
              <a:t>แบบฟอร์มของส่วนงานย่อย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761760" y="2286000"/>
            <a:ext cx="6629400" cy="35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23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23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836640" y="2286000"/>
            <a:ext cx="8307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531720" indent="-531720">
              <a:spcBef>
                <a:spcPts val="2188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3500" spc="-1" strike="noStrike">
                <a:solidFill>
                  <a:srgbClr val="008000"/>
                </a:solidFill>
                <a:latin typeface="Arial"/>
              </a:rPr>
              <a:t>  </a:t>
            </a:r>
            <a:endParaRPr b="0" lang="en-US" sz="3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2211480" y="2516040"/>
            <a:ext cx="53337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600200" y="2361960"/>
            <a:ext cx="6929280" cy="37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3600" spc="-1" strike="noStrike">
                <a:solidFill>
                  <a:srgbClr val="ff0000"/>
                </a:solidFill>
                <a:latin typeface="Arial"/>
              </a:rPr>
              <a:t>แบบ ปย</a:t>
            </a:r>
            <a:r>
              <a:rPr b="0" lang="th-TH" sz="3600" spc="-1" strike="noStrike">
                <a:solidFill>
                  <a:srgbClr val="ff0000"/>
                </a:solidFill>
                <a:latin typeface="Arial"/>
              </a:rPr>
              <a:t>.1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รายงานผลการประเมินองค์ประกอบของการควบคุมภายใน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3600" spc="-1" strike="noStrike">
                <a:solidFill>
                  <a:srgbClr val="ff0000"/>
                </a:solidFill>
                <a:latin typeface="Arial"/>
              </a:rPr>
              <a:t>แบบ ปย</a:t>
            </a:r>
            <a:r>
              <a:rPr b="0" lang="th-TH" sz="3600" spc="-1" strike="noStrike">
                <a:solidFill>
                  <a:srgbClr val="ff0000"/>
                </a:solidFill>
                <a:latin typeface="Arial"/>
              </a:rPr>
              <a:t>.2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รายงานการประเมินผลและ               การปรับปรุงการควบคุมภายใน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3600" spc="-1" strike="noStrike">
                <a:solidFill>
                  <a:srgbClr val="0000ff"/>
                </a:solidFill>
                <a:latin typeface="Arial"/>
              </a:rPr>
              <a:t>แบบติดตาม ปย</a:t>
            </a:r>
            <a:r>
              <a:rPr b="1" lang="th-TH" sz="3600" spc="-1" strike="noStrike">
                <a:solidFill>
                  <a:srgbClr val="0000ff"/>
                </a:solidFill>
                <a:latin typeface="Arial"/>
              </a:rPr>
              <a:t>.2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: 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รายงานผลการติดตามการปฏิบัติ             ตามแผนการปรับปรุงการควบคุมภายใน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ตัวยึดหมายเลขภาพนิ่ง 7"/>
          <p:cNvSpPr/>
          <p:nvPr/>
        </p:nvSpPr>
        <p:spPr>
          <a:xfrm>
            <a:off x="84240" y="6243480"/>
            <a:ext cx="587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A712-7B6F-4531-B9A4-1B076865FF8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997920" y="844200"/>
            <a:ext cx="8064000" cy="113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การติดตามประเมินผลระบบการควบคุมภายใน       ประจำปี 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2555</a:t>
            </a:r>
            <a:r>
              <a:rPr b="1" lang="th-TH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6280" y="2362320"/>
            <a:ext cx="6629400" cy="35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23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23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1068480" y="2743200"/>
            <a:ext cx="776916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531720" indent="-531720">
              <a:spcBef>
                <a:spcPts val="293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แบ่งออกเป็น  </a:t>
            </a: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รอบ ดังนี้                                    </a:t>
            </a: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รอบ  </a:t>
            </a: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6  </a:t>
            </a: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เดือน                                               </a:t>
            </a: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รอบ  </a:t>
            </a: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12  </a:t>
            </a: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เดือน</a:t>
            </a:r>
            <a:endParaRPr b="0" lang="en-US" sz="4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ตัวยึดหมายเลขภาพนิ่ง 5"/>
          <p:cNvSpPr/>
          <p:nvPr/>
        </p:nvSpPr>
        <p:spPr>
          <a:xfrm>
            <a:off x="84240" y="6243480"/>
            <a:ext cx="587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73A8-4CCA-4CD9-B77A-23E52D69DB6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80830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รอบ </a:t>
            </a: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เดือน </a:t>
            </a: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โรงเรียน</a:t>
            </a: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6640" y="2362320"/>
            <a:ext cx="7773840" cy="35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23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23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836640" y="2286000"/>
            <a:ext cx="815508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531720" indent="-531720">
              <a:spcBef>
                <a:spcPts val="2188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3500" spc="-1" strike="noStrike">
                <a:solidFill>
                  <a:srgbClr val="008000"/>
                </a:solidFill>
                <a:latin typeface="Arial"/>
              </a:rPr>
              <a:t>      </a:t>
            </a:r>
            <a:r>
              <a:rPr b="1" lang="th-TH" sz="3500" spc="-1" strike="noStrike" u="sng">
                <a:solidFill>
                  <a:srgbClr val="000000"/>
                </a:solidFill>
                <a:uFillTx/>
                <a:latin typeface="Arial"/>
              </a:rPr>
              <a:t>สิ้นสุด ณ วันที่  </a:t>
            </a:r>
            <a:r>
              <a:rPr b="1" lang="th-TH" sz="3500" spc="-1" strike="noStrike" u="sng">
                <a:solidFill>
                  <a:srgbClr val="000000"/>
                </a:solidFill>
                <a:uFillTx/>
                <a:latin typeface="Arial"/>
              </a:rPr>
              <a:t>31 </a:t>
            </a:r>
            <a:r>
              <a:rPr b="1" lang="th-TH" sz="3500" spc="-1" strike="noStrike" u="sng">
                <a:solidFill>
                  <a:srgbClr val="000000"/>
                </a:solidFill>
                <a:uFillTx/>
                <a:latin typeface="Arial"/>
              </a:rPr>
              <a:t>มีนาคม </a:t>
            </a:r>
            <a:r>
              <a:rPr b="1" lang="th-TH" sz="3500" spc="-1" strike="noStrike" u="sng">
                <a:solidFill>
                  <a:srgbClr val="000000"/>
                </a:solidFill>
                <a:uFillTx/>
                <a:latin typeface="Arial"/>
              </a:rPr>
              <a:t>2555 </a:t>
            </a: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ให้ดำเนินการ ดังนี้                                                       </a:t>
            </a: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ส่วนงานย่อยนำ</a:t>
            </a:r>
            <a:r>
              <a:rPr b="1" lang="th-TH" sz="3500" spc="-1" strike="noStrike">
                <a:solidFill>
                  <a:srgbClr val="ff0000"/>
                </a:solidFill>
                <a:latin typeface="Arial"/>
              </a:rPr>
              <a:t>แบบ ปย</a:t>
            </a:r>
            <a:r>
              <a:rPr b="1" lang="th-TH" sz="3500" spc="-1" strike="noStrike">
                <a:solidFill>
                  <a:srgbClr val="ff0000"/>
                </a:solidFill>
                <a:latin typeface="Arial"/>
              </a:rPr>
              <a:t>. 2 </a:t>
            </a:r>
            <a:r>
              <a:rPr b="1" lang="th-TH" sz="3500" spc="-1" strike="noStrike">
                <a:solidFill>
                  <a:srgbClr val="ff0000"/>
                </a:solidFill>
                <a:latin typeface="Arial"/>
              </a:rPr>
              <a:t>ของปี </a:t>
            </a:r>
            <a:r>
              <a:rPr b="1" lang="th-TH" sz="3500" spc="-1" strike="noStrike">
                <a:solidFill>
                  <a:srgbClr val="ff0000"/>
                </a:solidFill>
                <a:latin typeface="Arial"/>
              </a:rPr>
              <a:t>54 </a:t>
            </a: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มาติดตามผล           การปฏิบัติตามแผนการปรับปรุงการควบคุมภายใน แล้วสรุป   ลงใน</a:t>
            </a:r>
            <a:r>
              <a:rPr b="1" lang="th-TH" sz="3500" spc="-1" strike="noStrike">
                <a:solidFill>
                  <a:srgbClr val="ff0000"/>
                </a:solidFill>
                <a:latin typeface="Arial"/>
              </a:rPr>
              <a:t>แบบติดตาม ปย</a:t>
            </a:r>
            <a:r>
              <a:rPr b="1" lang="th-TH" sz="3500" spc="-1" strike="noStrike">
                <a:solidFill>
                  <a:srgbClr val="ff0000"/>
                </a:solidFill>
                <a:latin typeface="Arial"/>
              </a:rPr>
              <a:t>. 2</a:t>
            </a:r>
            <a:endParaRPr b="0" lang="en-US" sz="3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ตัวยึดหมายเลขภาพนิ่ง 5"/>
          <p:cNvSpPr/>
          <p:nvPr/>
        </p:nvSpPr>
        <p:spPr>
          <a:xfrm>
            <a:off x="84240" y="6243480"/>
            <a:ext cx="587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E42D-2E58-4FF2-BF69-39885B2FB81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8480" y="380880"/>
            <a:ext cx="7921440" cy="129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900"/>
            </a:br>
            <a:r>
              <a:rPr b="0" lang="th-TH" sz="29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th-TH" sz="2900" spc="-1" strike="noStrike">
                <a:solidFill>
                  <a:srgbClr val="000000"/>
                </a:solidFill>
                <a:latin typeface="Arial"/>
              </a:rPr>
              <a:t>กลุ่ม</a:t>
            </a:r>
            <a:r>
              <a:rPr b="0" lang="th-TH" sz="29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th-TH" sz="2900" spc="-1" strike="noStrike">
                <a:solidFill>
                  <a:srgbClr val="000000"/>
                </a:solidFill>
                <a:latin typeface="Arial"/>
              </a:rPr>
              <a:t>งาน</a:t>
            </a:r>
            <a:r>
              <a:rPr b="0" lang="th-TH" sz="2900" spc="-1" strike="noStrike">
                <a:solidFill>
                  <a:srgbClr val="000000"/>
                </a:solidFill>
                <a:latin typeface="Arial"/>
              </a:rPr>
              <a:t>......................</a:t>
            </a:r>
            <a:br>
              <a:rPr sz="2900"/>
            </a:br>
            <a:r>
              <a:rPr b="0" lang="th-TH" sz="2900" spc="-1" strike="noStrike">
                <a:solidFill>
                  <a:srgbClr val="000000"/>
                </a:solidFill>
                <a:latin typeface="Arial"/>
              </a:rPr>
              <a:t>รายงานผลการติดตามการปฏิบัติตามแผนการปรับปรุงการควบคุมภายใน </a:t>
            </a:r>
            <a:br>
              <a:rPr sz="2900"/>
            </a:br>
            <a:r>
              <a:rPr b="0" lang="th-TH" sz="2900" spc="-1" strike="noStrike">
                <a:solidFill>
                  <a:srgbClr val="000000"/>
                </a:solidFill>
                <a:latin typeface="Arial"/>
              </a:rPr>
              <a:t>ณ วันที่ </a:t>
            </a:r>
            <a:r>
              <a:rPr b="0" lang="th-TH" sz="2900" spc="-1" strike="noStrike">
                <a:solidFill>
                  <a:srgbClr val="000000"/>
                </a:solidFill>
                <a:latin typeface="Arial"/>
              </a:rPr>
              <a:t>31  </a:t>
            </a:r>
            <a:r>
              <a:rPr b="0" lang="th-TH" sz="2900" spc="-1" strike="noStrike">
                <a:solidFill>
                  <a:srgbClr val="000000"/>
                </a:solidFill>
                <a:latin typeface="Arial"/>
              </a:rPr>
              <a:t>มีนาคม  </a:t>
            </a:r>
            <a:r>
              <a:rPr b="0" lang="th-TH" sz="2900" spc="-1" strike="noStrike">
                <a:solidFill>
                  <a:srgbClr val="000000"/>
                </a:solidFill>
                <a:latin typeface="Arial"/>
              </a:rPr>
              <a:t>2555</a:t>
            </a:r>
            <a:endParaRPr b="1" lang="en-US" sz="29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62120" y="2463840"/>
          <a:ext cx="8153280" cy="3343320"/>
        </p:xfrm>
        <a:graphic>
          <a:graphicData uri="http://schemas.openxmlformats.org/drawingml/2006/table">
            <a:tbl>
              <a:tblPr/>
              <a:tblGrid>
                <a:gridCol w="1752480"/>
                <a:gridCol w="1066680"/>
                <a:gridCol w="990720"/>
                <a:gridCol w="990720"/>
                <a:gridCol w="1143000"/>
                <a:gridCol w="1143000"/>
                <a:gridCol w="1066680"/>
              </a:tblGrid>
              <a:tr h="26946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กระบวนการปฏิบัติงาน</a:t>
                      </a: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โครงการ</a:t>
                      </a: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กิจกรรม</a:t>
                      </a: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ด้านของงานที่ประเมิน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และวัตถุประสงค์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ของการควบคุม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การควบคุม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ที่มีอยู่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)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การ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ประเมินผล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การควบคุม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)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ความเสี่ยง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ที่ยังมียู่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)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การ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ปรับปรุง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การ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ควบคุม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)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กำหนด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เสร็จ</a:t>
                      </a: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ผู้รับ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ผิดชอบ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)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th-TH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วิธีการติดตามและ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th-TH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สรุปผลการประเมิน</a:t>
                      </a:r>
                      <a:r>
                        <a:rPr b="0" lang="th-TH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/</a:t>
                      </a:r>
                      <a:r>
                        <a:rPr b="0" lang="th-TH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ข้อคิดเห็น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th-TH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7)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3928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Text Box 71"/>
          <p:cNvSpPr/>
          <p:nvPr/>
        </p:nvSpPr>
        <p:spPr>
          <a:xfrm>
            <a:off x="7543800" y="1905120"/>
            <a:ext cx="1446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2000" spc="-1" strike="noStrike">
                <a:solidFill>
                  <a:srgbClr val="ff0000"/>
                </a:solidFill>
                <a:latin typeface="Arial"/>
              </a:rPr>
              <a:t>แบบติดตาม ปย</a:t>
            </a:r>
            <a:r>
              <a:rPr b="1" lang="th-TH" sz="2000" spc="-1" strike="noStrike">
                <a:solidFill>
                  <a:srgbClr val="ff0000"/>
                </a:solidFill>
                <a:latin typeface="Arial"/>
              </a:rPr>
              <a:t>. 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Text Box 74"/>
          <p:cNvSpPr/>
          <p:nvPr/>
        </p:nvSpPr>
        <p:spPr>
          <a:xfrm>
            <a:off x="6783480" y="5945040"/>
            <a:ext cx="19796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ชื่อผู้รายงาน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...........................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ตำแหน่ง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................................ 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วันที่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.....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เดือน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.........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พ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ศ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.........        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ตัวยึดหมายเลขภาพนิ่ง 6"/>
          <p:cNvSpPr/>
          <p:nvPr/>
        </p:nvSpPr>
        <p:spPr>
          <a:xfrm>
            <a:off x="84240" y="6243480"/>
            <a:ext cx="587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F4B7-4A2D-40B3-A7EE-77AB705E870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80830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รอบ </a:t>
            </a: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เดือน </a:t>
            </a: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โรงเรียน</a:t>
            </a: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6280" y="2362320"/>
            <a:ext cx="6629400" cy="35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23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23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836640" y="2286000"/>
            <a:ext cx="815508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531720" indent="-531720">
              <a:spcBef>
                <a:spcPts val="2188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3500" spc="-1" strike="noStrike">
                <a:solidFill>
                  <a:srgbClr val="008000"/>
                </a:solidFill>
                <a:latin typeface="Arial"/>
              </a:rPr>
              <a:t>       </a:t>
            </a: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ส่วนงานย่อยส่งแบบติดตาม ปย</a:t>
            </a: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. 2 </a:t>
            </a: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ให้ผู้รับผิดชอบของ    หน่วยรับตรวจ                                                                            </a:t>
            </a: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ผู้รับผิดชอบของหน่วยรับตรวจนำแบบติดตาม ปย</a:t>
            </a: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.2               </a:t>
            </a: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มาสรุปใน</a:t>
            </a:r>
            <a:r>
              <a:rPr b="1" lang="th-TH" sz="3500" spc="-1" strike="noStrike">
                <a:solidFill>
                  <a:srgbClr val="ff3300"/>
                </a:solidFill>
                <a:latin typeface="Arial"/>
              </a:rPr>
              <a:t>แบบ ติดตาม ปอ</a:t>
            </a:r>
            <a:r>
              <a:rPr b="1" lang="th-TH" sz="3500" spc="-1" strike="noStrike">
                <a:solidFill>
                  <a:srgbClr val="ff3300"/>
                </a:solidFill>
                <a:latin typeface="Arial"/>
              </a:rPr>
              <a:t>. 3</a:t>
            </a:r>
            <a:r>
              <a:rPr b="1" lang="th-TH" sz="3500" spc="-1" strike="noStrike">
                <a:solidFill>
                  <a:srgbClr val="003f80"/>
                </a:solidFill>
                <a:latin typeface="Arial"/>
              </a:rPr>
              <a:t>                                                                 </a:t>
            </a: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หน่วยรับตรวจส่งแบบติดตาม ปอ</a:t>
            </a: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. 3 </a:t>
            </a: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ให้ สพฐ</a:t>
            </a: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.               </a:t>
            </a:r>
            <a:r>
              <a:rPr b="1" lang="th-TH" sz="3500" spc="-1" strike="noStrike">
                <a:solidFill>
                  <a:srgbClr val="ff3300"/>
                </a:solidFill>
                <a:latin typeface="Arial"/>
              </a:rPr>
              <a:t>ภายในวันที่ </a:t>
            </a:r>
            <a:r>
              <a:rPr b="1" lang="th-TH" sz="3500" spc="-1" strike="noStrike">
                <a:solidFill>
                  <a:srgbClr val="ff3300"/>
                </a:solidFill>
                <a:latin typeface="Arial"/>
              </a:rPr>
              <a:t>30 </a:t>
            </a:r>
            <a:r>
              <a:rPr b="1" lang="th-TH" sz="3500" spc="-1" strike="noStrike">
                <a:solidFill>
                  <a:srgbClr val="ff3300"/>
                </a:solidFill>
                <a:latin typeface="Arial"/>
              </a:rPr>
              <a:t>เมษายน </a:t>
            </a:r>
            <a:r>
              <a:rPr b="1" lang="th-TH" sz="3500" spc="-1" strike="noStrike">
                <a:solidFill>
                  <a:srgbClr val="ff3300"/>
                </a:solidFill>
                <a:latin typeface="Arial"/>
              </a:rPr>
              <a:t>2555</a:t>
            </a:r>
            <a:endParaRPr b="0" lang="en-US" sz="3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ตัวยึดหมายเลขภาพนิ่ง 5"/>
          <p:cNvSpPr/>
          <p:nvPr/>
        </p:nvSpPr>
        <p:spPr>
          <a:xfrm>
            <a:off x="84240" y="6243480"/>
            <a:ext cx="587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4C79-FD55-4483-91D9-31C65331240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800" y="2361960"/>
            <a:ext cx="8153280" cy="37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25160" indent="0">
              <a:spcBef>
                <a:spcPts val="2563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สิ้นสุด ณ วันที่ 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ก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ย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. 55 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ให้ดำเนินการ ดังนี้ </a:t>
            </a:r>
            <a:r>
              <a:rPr b="1" lang="th-TH" sz="4000" spc="-1" strike="noStrike">
                <a:solidFill>
                  <a:srgbClr val="2b93ff"/>
                </a:solidFill>
                <a:latin typeface="Arial"/>
              </a:rPr>
              <a:t>                                       </a:t>
            </a:r>
            <a:r>
              <a:rPr b="1" lang="th-TH" sz="4100" spc="-1" strike="noStrike">
                <a:solidFill>
                  <a:srgbClr val="008000"/>
                </a:solidFill>
                <a:latin typeface="Arial"/>
              </a:rPr>
              <a:t>ก</a:t>
            </a:r>
            <a:r>
              <a:rPr b="1" lang="th-TH" sz="4100" spc="-1" strike="noStrike">
                <a:solidFill>
                  <a:srgbClr val="008000"/>
                </a:solidFill>
                <a:latin typeface="Arial"/>
              </a:rPr>
              <a:t>. </a:t>
            </a:r>
            <a:r>
              <a:rPr b="1" lang="th-TH" sz="4100" spc="-1" strike="noStrike">
                <a:solidFill>
                  <a:srgbClr val="008000"/>
                </a:solidFill>
                <a:latin typeface="Arial"/>
              </a:rPr>
              <a:t>ส่วนงานย่อย </a:t>
            </a:r>
            <a:r>
              <a:rPr b="0" lang="th-TH" sz="41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th-TH" sz="4100" spc="-1" strike="noStrike">
                <a:solidFill>
                  <a:srgbClr val="ff0000"/>
                </a:solidFill>
                <a:latin typeface="Arial"/>
              </a:rPr>
              <a:t>สำนัก</a:t>
            </a:r>
            <a:r>
              <a:rPr b="0" lang="th-TH" sz="41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th-TH" sz="4100" spc="-1" strike="noStrike">
                <a:solidFill>
                  <a:srgbClr val="ff0000"/>
                </a:solidFill>
                <a:latin typeface="Arial"/>
              </a:rPr>
              <a:t>กลุ่ม</a:t>
            </a:r>
            <a:r>
              <a:rPr b="0" lang="th-TH" sz="4100" spc="-1" strike="noStrike">
                <a:solidFill>
                  <a:srgbClr val="6600ff"/>
                </a:solidFill>
                <a:latin typeface="Arial"/>
              </a:rPr>
              <a:t>/</a:t>
            </a:r>
            <a:r>
              <a:rPr b="0" lang="th-TH" sz="4100" spc="-1" strike="noStrike">
                <a:solidFill>
                  <a:srgbClr val="ff0000"/>
                </a:solidFill>
                <a:latin typeface="Arial"/>
              </a:rPr>
              <a:t>งาน</a:t>
            </a:r>
            <a:r>
              <a:rPr b="0" lang="th-TH" sz="41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100" spc="-1" strike="noStrike">
              <a:solidFill>
                <a:srgbClr val="003366"/>
              </a:solidFill>
              <a:latin typeface="Arial"/>
            </a:endParaRPr>
          </a:p>
          <a:p>
            <a:pPr marL="425160" indent="0">
              <a:spcBef>
                <a:spcPts val="10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41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th-TH" sz="41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th-TH" sz="4100" spc="-1" strike="noStrike">
                <a:solidFill>
                  <a:srgbClr val="000000"/>
                </a:solidFill>
                <a:latin typeface="Arial"/>
              </a:rPr>
              <a:t>นำแบบ ปย</a:t>
            </a:r>
            <a:r>
              <a:rPr b="1" lang="th-TH" sz="4100" spc="-1" strike="noStrike">
                <a:solidFill>
                  <a:srgbClr val="000000"/>
                </a:solidFill>
                <a:latin typeface="Arial"/>
              </a:rPr>
              <a:t>.2 (</a:t>
            </a:r>
            <a:r>
              <a:rPr b="1" lang="th-TH" sz="4100" spc="-1" strike="noStrike">
                <a:solidFill>
                  <a:srgbClr val="000000"/>
                </a:solidFill>
                <a:latin typeface="Arial"/>
              </a:rPr>
              <a:t>ปี </a:t>
            </a:r>
            <a:r>
              <a:rPr b="1" lang="th-TH" sz="4100" spc="-1" strike="noStrike">
                <a:solidFill>
                  <a:srgbClr val="000000"/>
                </a:solidFill>
                <a:latin typeface="Arial"/>
              </a:rPr>
              <a:t>54) </a:t>
            </a:r>
            <a:r>
              <a:rPr b="0" lang="th-TH" sz="4100" spc="-1" strike="noStrike">
                <a:solidFill>
                  <a:srgbClr val="000000"/>
                </a:solidFill>
                <a:latin typeface="Arial"/>
              </a:rPr>
              <a:t>มาติดตามผลการปฏิบัติงาน             แล้วสรุปลงใน</a:t>
            </a:r>
            <a:r>
              <a:rPr b="0" lang="th-TH" sz="4100" spc="-1" strike="noStrike" u="sng">
                <a:solidFill>
                  <a:srgbClr val="ff0000"/>
                </a:solidFill>
                <a:uFillTx/>
                <a:latin typeface="Arial"/>
              </a:rPr>
              <a:t>แบบติดตาม ปย</a:t>
            </a:r>
            <a:r>
              <a:rPr b="0" lang="th-TH" sz="4100" spc="-1" strike="noStrike" u="sng">
                <a:solidFill>
                  <a:srgbClr val="ff0000"/>
                </a:solidFill>
                <a:uFillTx/>
                <a:latin typeface="Arial"/>
              </a:rPr>
              <a:t>. 2                           </a:t>
            </a:r>
            <a:r>
              <a:rPr b="0" lang="th-TH" sz="4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th-TH" sz="4100" spc="-1" strike="noStrike">
                <a:solidFill>
                  <a:srgbClr val="000000"/>
                </a:solidFill>
                <a:latin typeface="Arial"/>
              </a:rPr>
              <a:t>สพฐ</a:t>
            </a:r>
            <a:r>
              <a:rPr b="0" lang="th-TH" sz="41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th-TH" sz="4100" spc="-1" strike="noStrike">
                <a:solidFill>
                  <a:srgbClr val="000000"/>
                </a:solidFill>
                <a:latin typeface="Arial"/>
              </a:rPr>
              <a:t>ได้กำหนดแบบให้</a:t>
            </a:r>
            <a:r>
              <a:rPr b="0" lang="th-TH" sz="4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4120" y="834120"/>
            <a:ext cx="77814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รอบ </a:t>
            </a: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เดือน </a:t>
            </a: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โรงเรียน</a:t>
            </a: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ตัวยึดหมายเลขภาพนิ่ง 5"/>
          <p:cNvSpPr/>
          <p:nvPr/>
        </p:nvSpPr>
        <p:spPr>
          <a:xfrm>
            <a:off x="84240" y="6243480"/>
            <a:ext cx="587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E0AB-FF50-4FB7-840F-C4331168757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20:42:31Z</dcterms:created>
  <dc:creator>Account</dc:creator>
  <dc:description/>
  <dc:language>en-US</dc:language>
  <cp:lastModifiedBy>kobchai</cp:lastModifiedBy>
  <dcterms:modified xsi:type="dcterms:W3CDTF">2012-07-18T03:43:35Z</dcterms:modified>
  <cp:revision>204</cp:revision>
  <dc:subject/>
  <dc:title>รายงานผลการควบคุมภายในสำหรับปีสิ้นสุด  วันที่ 30  กันยายน พ.ศ.2552</dc:title>
</cp:coreProperties>
</file>